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824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1157400"/>
            <a:ext cx="0" cy="559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" name=""/>
          <p:cNvSpPr/>
          <p:nvPr/>
        </p:nvSpPr>
        <p:spPr>
          <a:xfrm>
            <a:off x="4896360" y="1440"/>
            <a:ext cx="424764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Elektronik Kütüphanecilik Semineri”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ffffff"/>
                </a:solidFill>
                <a:latin typeface="Arial"/>
              </a:rPr>
              <a:t>4-8 Eylül 2000, Ankara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imes New Roman Tur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" name=""/>
          <p:cNvSpPr/>
          <p:nvPr/>
        </p:nvSpPr>
        <p:spPr>
          <a:xfrm>
            <a:off x="-412200" y="6600960"/>
            <a:ext cx="1139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chnical"/>
              </a:rPr>
              <a:t>Y.T.</a:t>
            </a:r>
            <a:endParaRPr b="0" lang="en-US" sz="1200" spc="-1" strike="noStrike">
              <a:solidFill>
                <a:srgbClr val="ffffff"/>
              </a:solidFill>
              <a:latin typeface="Times New Roman Tur"/>
            </a:endParaRPr>
          </a:p>
        </p:txBody>
      </p:sp>
      <p:pic>
        <p:nvPicPr>
          <p:cNvPr id="4" name="amblem" descr=""/>
          <p:cNvPicPr/>
          <p:nvPr/>
        </p:nvPicPr>
        <p:blipFill>
          <a:blip r:embed="rId3"/>
          <a:stretch/>
        </p:blipFill>
        <p:spPr>
          <a:xfrm>
            <a:off x="0" y="0"/>
            <a:ext cx="676440" cy="1095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Tu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Tur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spcBef>
                <a:spcPts val="601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imes New Roman Tu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Web%20siteleri%20(BUBL)" TargetMode="External"/><Relationship Id="rId3" Type="http://schemas.openxmlformats.org/officeDocument/2006/relationships/hyperlink" Target="file:///Web%20siteleri%20(BUBL)" TargetMode="External"/><Relationship Id="rId4" Type="http://schemas.openxmlformats.org/officeDocument/2006/relationships/hyperlink" Target="file:///Web%20siteleri%20(BUBL)" TargetMode="External"/><Relationship Id="rId5" Type="http://schemas.openxmlformats.org/officeDocument/2006/relationships/hyperlink" Target="file:///Web%20siteleri%20(BUBL)" TargetMode="External"/><Relationship Id="rId6" Type="http://schemas.openxmlformats.org/officeDocument/2006/relationships/hyperlink" Target="file:///Web%20siteleri%20(BUBL)" TargetMode="External"/><Relationship Id="rId7" Type="http://schemas.openxmlformats.org/officeDocument/2006/relationships/hyperlink" Target="file:///Web%20siteleri%20(BUBL)" TargetMode="External"/><Relationship Id="rId8" Type="http://schemas.openxmlformats.org/officeDocument/2006/relationships/hyperlink" Target="file:///Web%20siteleri%20(BUBL)" TargetMode="External"/><Relationship Id="rId9" Type="http://schemas.openxmlformats.org/officeDocument/2006/relationships/hyperlink" Target="file:///Web%20siteleri%20(BUBL)" TargetMode="External"/><Relationship Id="rId10" Type="http://schemas.openxmlformats.org/officeDocument/2006/relationships/hyperlink" Target="file:///Web%20siteleri%20(BUBL)" TargetMode="External"/><Relationship Id="rId11" Type="http://schemas.openxmlformats.org/officeDocument/2006/relationships/hyperlink" Target="http://www.epnet.com/lrc.html" TargetMode="External"/><Relationship Id="rId12" Type="http://schemas.openxmlformats.org/officeDocument/2006/relationships/hyperlink" Target="http://www.epnet.com/lrc.html" TargetMode="External"/><Relationship Id="rId13" Type="http://schemas.openxmlformats.org/officeDocument/2006/relationships/hyperlink" Target="http://www.epnet.com/lrc.html" TargetMode="External"/><Relationship Id="rId14" Type="http://schemas.openxmlformats.org/officeDocument/2006/relationships/hyperlink" Target="http://www.epnet.com/lrc.html" TargetMode="External"/><Relationship Id="rId15" Type="http://schemas.openxmlformats.org/officeDocument/2006/relationships/hyperlink" Target="http://www.epnet.com/lrc.html" TargetMode="External"/><Relationship Id="rId16" Type="http://schemas.openxmlformats.org/officeDocument/2006/relationships/hyperlink" Target="http://www.epnet.com/lrc.html" TargetMode="External"/><Relationship Id="rId17" Type="http://schemas.openxmlformats.org/officeDocument/2006/relationships/hyperlink" Target="http://www.epnet.com/lrc.html" TargetMode="External"/><Relationship Id="rId18" Type="http://schemas.openxmlformats.org/officeDocument/2006/relationships/hyperlink" Target="http://www.epnet.com/lrc.html" TargetMode="External"/><Relationship Id="rId19" Type="http://schemas.openxmlformats.org/officeDocument/2006/relationships/hyperlink" Target="http://sunsite.berkeley.edu/CurrentCites/" TargetMode="External"/><Relationship Id="rId20" Type="http://schemas.openxmlformats.org/officeDocument/2006/relationships/hyperlink" Target="http://sunsite.berkeley.edu/CurrentCites/" TargetMode="External"/><Relationship Id="rId21" Type="http://schemas.openxmlformats.org/officeDocument/2006/relationships/hyperlink" Target="http://sunsite.berkeley.edu/CurrentCites/" TargetMode="External"/><Relationship Id="rId22" Type="http://schemas.openxmlformats.org/officeDocument/2006/relationships/hyperlink" Target="http://sunsite.berkeley.edu/CurrentCites/" TargetMode="External"/><Relationship Id="rId23" Type="http://schemas.openxmlformats.org/officeDocument/2006/relationships/hyperlink" Target="http://sunsite.berkeley.edu/CurrentCites/" TargetMode="External"/><Relationship Id="rId24" Type="http://schemas.openxmlformats.org/officeDocument/2006/relationships/hyperlink" Target="http://sunsite.berkeley.edu/CurrentCites/" TargetMode="External"/><Relationship Id="rId25" Type="http://schemas.openxmlformats.org/officeDocument/2006/relationships/hyperlink" Target="http://sunsite.berkeley.edu/CurrentCites/" TargetMode="External"/><Relationship Id="rId26" Type="http://schemas.openxmlformats.org/officeDocument/2006/relationships/hyperlink" Target="http://sunsite.berkeley.edu/CurrentCites/" TargetMode="External"/><Relationship Id="rId27" Type="http://schemas.openxmlformats.org/officeDocument/2006/relationships/hyperlink" Target="http://sunsite.berkeley.edu/CurrentCites/" TargetMode="External"/><Relationship Id="rId28" Type="http://schemas.openxmlformats.org/officeDocument/2006/relationships/hyperlink" Target="http://www.tourbus.com/" TargetMode="External"/><Relationship Id="rId29" Type="http://schemas.openxmlformats.org/officeDocument/2006/relationships/hyperlink" Target="http://www.tourbus.com/" TargetMode="External"/><Relationship Id="rId30" Type="http://schemas.openxmlformats.org/officeDocument/2006/relationships/hyperlink" Target="http://www.tourbus.com/" TargetMode="External"/><Relationship Id="rId31" Type="http://schemas.openxmlformats.org/officeDocument/2006/relationships/hyperlink" Target="http://www.tourbus.com/" TargetMode="External"/><Relationship Id="rId32" Type="http://schemas.openxmlformats.org/officeDocument/2006/relationships/hyperlink" Target="http://www.tourbus.com/" TargetMode="External"/><Relationship Id="rId33" Type="http://schemas.openxmlformats.org/officeDocument/2006/relationships/hyperlink" Target="http://ipl.lub.lu.se/" TargetMode="External"/><Relationship Id="rId34" Type="http://schemas.openxmlformats.org/officeDocument/2006/relationships/hyperlink" Target="http://ipl.lub.lu.se/" TargetMode="External"/><Relationship Id="rId35" Type="http://schemas.openxmlformats.org/officeDocument/2006/relationships/hyperlink" Target="http://ipl.lub.lu.se/" TargetMode="External"/><Relationship Id="rId36" Type="http://schemas.openxmlformats.org/officeDocument/2006/relationships/hyperlink" Target="http://ipl.lub.lu.se/" TargetMode="External"/><Relationship Id="rId37" Type="http://schemas.openxmlformats.org/officeDocument/2006/relationships/hyperlink" Target="http://ipl.lub.lu.se/" TargetMode="External"/><Relationship Id="rId38" Type="http://schemas.openxmlformats.org/officeDocument/2006/relationships/hyperlink" Target="http://ipl.lub.lu.se/" TargetMode="External"/><Relationship Id="rId39" Type="http://schemas.openxmlformats.org/officeDocument/2006/relationships/hyperlink" Target="http://ipl.lub.lu.se/" TargetMode="External"/><Relationship Id="rId40" Type="http://schemas.openxmlformats.org/officeDocument/2006/relationships/hyperlink" Target="http://www.cuis.edu/~stumpers/index.html" TargetMode="External"/><Relationship Id="rId41" Type="http://schemas.openxmlformats.org/officeDocument/2006/relationships/hyperlink" Target="http://www.cuis.edu/~stumpers/index.html" TargetMode="External"/><Relationship Id="rId42" Type="http://schemas.openxmlformats.org/officeDocument/2006/relationships/hyperlink" Target="http://www.cuis.edu/~stumpers/index.html" TargetMode="External"/><Relationship Id="rId43" Type="http://schemas.openxmlformats.org/officeDocument/2006/relationships/hyperlink" Target="http://www.cuis.edu/~stumpers/index.html" TargetMode="External"/><Relationship Id="rId44" Type="http://schemas.openxmlformats.org/officeDocument/2006/relationships/hyperlink" Target="http://www.cuis.edu/~stumpers/index.html" TargetMode="External"/><Relationship Id="rId45" Type="http://schemas.openxmlformats.org/officeDocument/2006/relationships/hyperlink" Target="http://www.cuis.edu/~stumpers/index.html" TargetMode="External"/><Relationship Id="rId46" Type="http://schemas.openxmlformats.org/officeDocument/2006/relationships/hyperlink" Target="http://www.cuis.edu/~stumpers/index.html" TargetMode="External"/><Relationship Id="rId47" Type="http://schemas.openxmlformats.org/officeDocument/2006/relationships/hyperlink" Target="http://www.cuis.edu/~stumpers/index.html" TargetMode="External"/><Relationship Id="rId4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ortico.bl.uk/services/services_main.html" TargetMode="External"/><Relationship Id="rId3" Type="http://schemas.openxmlformats.org/officeDocument/2006/relationships/hyperlink" Target="http://portico.bl.uk/services/services_main.html" TargetMode="External"/><Relationship Id="rId4" Type="http://schemas.openxmlformats.org/officeDocument/2006/relationships/hyperlink" Target="http://www.adonis.nl/" TargetMode="External"/><Relationship Id="rId5" Type="http://schemas.openxmlformats.org/officeDocument/2006/relationships/hyperlink" Target="http://www.adonis.nl/" TargetMode="External"/><Relationship Id="rId6" Type="http://schemas.openxmlformats.org/officeDocument/2006/relationships/hyperlink" Target="http://www.adonis.nl/" TargetMode="External"/><Relationship Id="rId7" Type="http://schemas.openxmlformats.org/officeDocument/2006/relationships/hyperlink" Target="http://www.adonis.nl/" TargetMode="External"/><Relationship Id="rId8" Type="http://schemas.openxmlformats.org/officeDocument/2006/relationships/hyperlink" Target="http://www.adonis.nl/" TargetMode="External"/><Relationship Id="rId9" Type="http://schemas.openxmlformats.org/officeDocument/2006/relationships/hyperlink" Target="http://www.adonis.nl/" TargetMode="External"/><Relationship Id="rId10" Type="http://schemas.openxmlformats.org/officeDocument/2006/relationships/hyperlink" Target="http://www.oclc.org/oclc/menu/fs.htm" TargetMode="External"/><Relationship Id="rId11" Type="http://schemas.openxmlformats.org/officeDocument/2006/relationships/hyperlink" Target="http://www.oclc.org/oclc/menu/fs.htm" TargetMode="External"/><Relationship Id="rId12" Type="http://schemas.openxmlformats.org/officeDocument/2006/relationships/hyperlink" Target="http://www.oclc.org/oclc/menu/fs.htm" TargetMode="External"/><Relationship Id="rId13" Type="http://schemas.openxmlformats.org/officeDocument/2006/relationships/hyperlink" Target="http://www.oclc.org/oclc/menu/fs.htm" TargetMode="External"/><Relationship Id="rId14" Type="http://schemas.openxmlformats.org/officeDocument/2006/relationships/hyperlink" Target="http://www.oclc.org/oclc/menu/fs.htm" TargetMode="External"/><Relationship Id="rId15" Type="http://schemas.openxmlformats.org/officeDocument/2006/relationships/hyperlink" Target="http://www.oclc.org/oclc/menu/fs.htm" TargetMode="External"/><Relationship Id="rId16" Type="http://schemas.openxmlformats.org/officeDocument/2006/relationships/hyperlink" Target="http://www.oclc.org/oclc/menu/fs.htm" TargetMode="External"/><Relationship Id="rId17" Type="http://schemas.openxmlformats.org/officeDocument/2006/relationships/hyperlink" Target="http://www.oclc.org/oclc/menu/fs.htm" TargetMode="External"/><Relationship Id="rId18" Type="http://schemas.openxmlformats.org/officeDocument/2006/relationships/hyperlink" Target="http://www.oclc.org/oclc/menu/fs.htm" TargetMode="External"/><Relationship Id="rId19" Type="http://schemas.openxmlformats.org/officeDocument/2006/relationships/hyperlink" Target="http://www.oclc.org/oclc/menu/fs.htm" TargetMode="External"/><Relationship Id="rId20" Type="http://schemas.openxmlformats.org/officeDocument/2006/relationships/hyperlink" Target="http://www.inist.fr/" TargetMode="External"/><Relationship Id="rId21" Type="http://schemas.openxmlformats.org/officeDocument/2006/relationships/hyperlink" Target="http://www.inist.fr/" TargetMode="External"/><Relationship Id="rId22" Type="http://schemas.openxmlformats.org/officeDocument/2006/relationships/hyperlink" Target="http://www.inist.fr/" TargetMode="External"/><Relationship Id="rId23" Type="http://schemas.openxmlformats.org/officeDocument/2006/relationships/hyperlink" Target="http://www.inist.fr/" TargetMode="External"/><Relationship Id="rId24" Type="http://schemas.openxmlformats.org/officeDocument/2006/relationships/hyperlink" Target="http://www.inist.fr/" TargetMode="External"/><Relationship Id="rId25" Type="http://schemas.openxmlformats.org/officeDocument/2006/relationships/hyperlink" Target="http://www.inist.fr/" TargetMode="External"/><Relationship Id="rId26" Type="http://schemas.openxmlformats.org/officeDocument/2006/relationships/hyperlink" Target="http://www.ub.uni-bielefeld.de/databases/jason/jason.htm" TargetMode="External"/><Relationship Id="rId27" Type="http://schemas.openxmlformats.org/officeDocument/2006/relationships/hyperlink" Target="http://www.ub.uni-bielefeld.de/databases/jason/jason.htm" TargetMode="External"/><Relationship Id="rId28" Type="http://schemas.openxmlformats.org/officeDocument/2006/relationships/hyperlink" Target="http://www.ub.uni-bielefeld.de/databases/jason/jason.htm" TargetMode="External"/><Relationship Id="rId29" Type="http://schemas.openxmlformats.org/officeDocument/2006/relationships/hyperlink" Target="http://www.ub.uni-bielefeld.de/databases/jason/jason.htm" TargetMode="External"/><Relationship Id="rId30" Type="http://schemas.openxmlformats.org/officeDocument/2006/relationships/hyperlink" Target="http://www.ub.uni-bielefeld.de/databases/jason/jason.htm" TargetMode="External"/><Relationship Id="rId31" Type="http://schemas.openxmlformats.org/officeDocument/2006/relationships/hyperlink" Target="http://www.ub.uni-bielefeld.de/databases/jason/jason.htm" TargetMode="External"/><Relationship Id="rId32" Type="http://schemas.openxmlformats.org/officeDocument/2006/relationships/hyperlink" Target="http://www.ub.uni-bielefeld.de/databases/jason/jason.htm" TargetMode="External"/><Relationship Id="rId33" Type="http://schemas.openxmlformats.org/officeDocument/2006/relationships/hyperlink" Target="http://www.ub.uni-bielefeld.de/databases/jason/jason.htm" TargetMode="External"/><Relationship Id="rId34" Type="http://schemas.openxmlformats.org/officeDocument/2006/relationships/hyperlink" Target="http://www.ub.uni-bielefeld.de/databases/jason/jason.htm" TargetMode="External"/><Relationship Id="rId35" Type="http://schemas.openxmlformats.org/officeDocument/2006/relationships/hyperlink" Target="http://www.ub.uni-bielefeld.de/databases/jason/jason.htm" TargetMode="External"/><Relationship Id="rId36" Type="http://schemas.openxmlformats.org/officeDocument/2006/relationships/hyperlink" Target="http://www.ub.uni-bielefeld.de/databases/jason/jason.htm" TargetMode="External"/><Relationship Id="rId37" Type="http://schemas.openxmlformats.org/officeDocument/2006/relationships/hyperlink" Target="http://www.ub.uni-bielefeld.de/databases/jason/jason.htm" TargetMode="External"/><Relationship Id="rId3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Bilgi Hizmetleri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381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6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Güncel Duyuru Hizmetler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eb aracılığıyla kütüphane dermesine eklenen kaynakların (e-dergiler, veri tabanları, vd.), etkinliklerin, turların vs. duyurulmas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eni kaynakların isteyen kullanıcılara e-posta aracılığıyla duyurulmas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rofiller yaratılarak yeni kaynakların ilgili kişilere düzenli olarak duyurulmas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atın alma önerisi/geri bildirim formu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İçindekiler Sayfası Hizmetler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rama motorlar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kıllı ajanlar (Inquisit vd.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lektronik dergiler (BMJ, PNAS, OCLC Contents First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icari Yayıncılar (Ebsco, Swets &amp; Blackwell, TDNet vd.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305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Danışma Hizmetleri 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anışma sorularının web’den kabul edilmesi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İsteklerin e-posta ile de alınması (ör., kutuphane-danisma@hacettepe.edu.tr)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eb formlarının ve e-postanın sık sık kontrol edilme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enel listeler (PACS-L, Stumpers-L), üniversitenin ve kütüphanenin tartışma listeler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Uzaktan çevrimiçi danışma hizmetleri (videokonferans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Danışma Hizmetleri 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Web siteler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3"/>
              </a:rPr>
              <a:t>www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4"/>
              </a:rPr>
              <a:t>.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5"/>
              </a:rPr>
              <a:t>bubl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6"/>
              </a:rPr>
              <a:t>.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7"/>
              </a:rPr>
              <a:t>ac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8"/>
              </a:rPr>
              <a:t>.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9"/>
              </a:rPr>
              <a:t>uk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0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bsco Library Reference Library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1"/>
              </a:rPr>
              <a:t>http://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2"/>
              </a:rPr>
              <a:t>www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3"/>
              </a:rPr>
              <a:t>.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4"/>
              </a:rPr>
              <a:t>epnet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5"/>
              </a:rPr>
              <a:t>.com/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6"/>
              </a:rPr>
              <a:t>lrc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7"/>
              </a:rPr>
              <a:t>.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8"/>
              </a:rPr>
              <a:t>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urrent Cites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9"/>
              </a:rPr>
              <a:t>http://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20"/>
              </a:rPr>
              <a:t>sunsite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21"/>
              </a:rPr>
              <a:t>.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22"/>
              </a:rPr>
              <a:t>berkeley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23"/>
              </a:rPr>
              <a:t>.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24"/>
              </a:rPr>
              <a:t>edu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25"/>
              </a:rPr>
              <a:t>/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26"/>
              </a:rPr>
              <a:t>CurrentCites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27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ternet TourBus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28"/>
              </a:rPr>
              <a:t>http://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29"/>
              </a:rPr>
              <a:t>www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30"/>
              </a:rPr>
              <a:t>.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31"/>
              </a:rPr>
              <a:t>tourbus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32"/>
              </a:rPr>
              <a:t>.com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ternet Public Library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33"/>
              </a:rPr>
              <a:t>http://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34"/>
              </a:rPr>
              <a:t>ipl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35"/>
              </a:rPr>
              <a:t>.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36"/>
              </a:rPr>
              <a:t>lub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37"/>
              </a:rPr>
              <a:t>.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38"/>
              </a:rPr>
              <a:t>lu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39"/>
              </a:rPr>
              <a:t>.se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Michigan Ü. Bilgi Okulu’nun bir hizmeti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umpers-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ff0100"/>
                </a:solidFill>
                <a:uFillTx/>
                <a:latin typeface="Arial"/>
                <a:hlinkClick r:id="rId40"/>
              </a:rPr>
              <a:t>http://</a:t>
            </a:r>
            <a:r>
              <a:rPr b="0" lang="en-AU" sz="2400" spc="-1" strike="noStrike" u="sng">
                <a:solidFill>
                  <a:srgbClr val="ff0100"/>
                </a:solidFill>
                <a:uFillTx/>
                <a:latin typeface="Arial"/>
                <a:hlinkClick r:id="rId41"/>
              </a:rPr>
              <a:t>www</a:t>
            </a:r>
            <a:r>
              <a:rPr b="0" lang="en-AU" sz="2400" spc="-1" strike="noStrike" u="sng">
                <a:solidFill>
                  <a:srgbClr val="ff0100"/>
                </a:solidFill>
                <a:uFillTx/>
                <a:latin typeface="Arial"/>
                <a:hlinkClick r:id="rId42"/>
              </a:rPr>
              <a:t>.</a:t>
            </a:r>
            <a:r>
              <a:rPr b="0" lang="en-AU" sz="2400" spc="-1" strike="noStrike" u="sng">
                <a:solidFill>
                  <a:srgbClr val="ff0100"/>
                </a:solidFill>
                <a:uFillTx/>
                <a:latin typeface="Arial"/>
                <a:hlinkClick r:id="rId43"/>
              </a:rPr>
              <a:t>cuis</a:t>
            </a:r>
            <a:r>
              <a:rPr b="0" lang="en-AU" sz="2400" spc="-1" strike="noStrike" u="sng">
                <a:solidFill>
                  <a:srgbClr val="ff0100"/>
                </a:solidFill>
                <a:uFillTx/>
                <a:latin typeface="Arial"/>
                <a:hlinkClick r:id="rId44"/>
              </a:rPr>
              <a:t>.</a:t>
            </a:r>
            <a:r>
              <a:rPr b="0" lang="en-AU" sz="2400" spc="-1" strike="noStrike" u="sng">
                <a:solidFill>
                  <a:srgbClr val="ff0100"/>
                </a:solidFill>
                <a:uFillTx/>
                <a:latin typeface="Arial"/>
                <a:hlinkClick r:id="rId45"/>
              </a:rPr>
              <a:t>edu</a:t>
            </a:r>
            <a:r>
              <a:rPr b="0" lang="en-AU" sz="2400" spc="-1" strike="noStrike" u="sng">
                <a:solidFill>
                  <a:srgbClr val="ff0100"/>
                </a:solidFill>
                <a:uFillTx/>
                <a:latin typeface="Arial"/>
                <a:hlinkClick r:id="rId46"/>
              </a:rPr>
              <a:t>/~stumpers/index.</a:t>
            </a:r>
            <a:r>
              <a:rPr b="0" lang="en-AU" sz="2400" spc="-1" strike="noStrike" u="sng">
                <a:solidFill>
                  <a:srgbClr val="ff0100"/>
                </a:solidFill>
                <a:uFillTx/>
                <a:latin typeface="Arial"/>
                <a:hlinkClick r:id="rId47"/>
              </a:rPr>
              <a:t>htm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6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686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305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Kullanıcı Hizmetlerindeki Genel Yönelim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eleneksel hizmetlerin değişmes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eni hizmet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racısızlaştırma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zak kullanıcılara verilen hizmet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ullanıcıların kütüphane teknolojisine tepkiler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100000"/>
              </a:lnSpc>
              <a:spcBef>
                <a:spcPts val="24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Kaynak, Lancaster-Sandore, Technology and management in library and information services. (USGSLIS, 1997)</a:t>
            </a:r>
            <a:endParaRPr b="0" lang="en-US" sz="10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4582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610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Rezerv Hizmetler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erslerin belirlenmes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zerv dermelerinin oluşturulmas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-kitapların ve e-makalelerin saptanmas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Kütüphanenin abone olmadığı e-kaynaklar için lisans alınmas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asılı kaynakların sayısallaştırılması (telif hakkı?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Hakların tanımlanması (erişim, indirme, bastırma vd.)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rişim yönetiminin dersler ve kaynaklar temel alınarak kurulmas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Uzaktan erişecek kullanıcılar için kolaylık sağlanması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381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Belge Sağlama Hizmetleri 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BLDSC          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2"/>
              </a:rPr>
              <a:t>http://portico.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3"/>
              </a:rPr>
              <a:t>bl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.uk/services/services_main.html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Makalelerin elektronik kopyaları (Elsevier vd.) 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atent Express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MEDLINE Loansome Belge Sipariş Sistemi (kayıt gerekli)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http://tendon.nlm.nih.gov/ld/loansome.html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DONIS              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5"/>
              </a:rPr>
              <a:t>www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6"/>
              </a:rPr>
              <a:t>.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7"/>
              </a:rPr>
              <a:t>adonis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8"/>
              </a:rPr>
              <a:t>.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9"/>
              </a:rPr>
              <a:t>nl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800 dergideki makalelerin tam metinleri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CLC First Search            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0"/>
              </a:rPr>
              <a:t>http://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1"/>
              </a:rPr>
              <a:t>www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2"/>
              </a:rPr>
              <a:t>.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3"/>
              </a:rPr>
              <a:t>oclc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4"/>
              </a:rPr>
              <a:t>.org/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5"/>
              </a:rPr>
              <a:t>oclc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6"/>
              </a:rPr>
              <a:t>/menu/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7"/>
              </a:rPr>
              <a:t>fs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8"/>
              </a:rPr>
              <a:t>.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19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INIST                 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20"/>
              </a:rPr>
              <a:t>http://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21"/>
              </a:rPr>
              <a:t>www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22"/>
              </a:rPr>
              <a:t>.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23"/>
              </a:rPr>
              <a:t>inist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24"/>
              </a:rPr>
              <a:t>.</a:t>
            </a:r>
            <a:r>
              <a:rPr b="0" lang="en-AU" sz="2000" spc="-1" strike="noStrike" u="sng">
                <a:solidFill>
                  <a:srgbClr val="ff0100"/>
                </a:solidFill>
                <a:uFillTx/>
                <a:latin typeface="Arial"/>
                <a:hlinkClick r:id="rId25"/>
              </a:rPr>
              <a:t>f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1800 dergi dijitize edilmiş, isteklerin %30’unu karşılıyor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JASON/SUBITO /JADE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26"/>
              </a:rPr>
              <a:t>http://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27"/>
              </a:rPr>
              <a:t>www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28"/>
              </a:rPr>
              <a:t>.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29"/>
              </a:rPr>
              <a:t>ub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30"/>
              </a:rPr>
              <a:t>.uni-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31"/>
              </a:rPr>
              <a:t>bielefeld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32"/>
              </a:rPr>
              <a:t>.de/databases/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33"/>
              </a:rPr>
              <a:t>jason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34"/>
              </a:rPr>
              <a:t>/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35"/>
              </a:rPr>
              <a:t>jason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36"/>
              </a:rPr>
              <a:t>.</a:t>
            </a:r>
            <a:r>
              <a:rPr b="0" lang="en-AU" sz="1800" spc="-1" strike="noStrike" u="sng">
                <a:solidFill>
                  <a:srgbClr val="ff0100"/>
                </a:solidFill>
                <a:uFillTx/>
                <a:latin typeface="Arial"/>
                <a:hlinkClick r:id="rId37"/>
              </a:rPr>
              <a:t>htm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381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610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763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381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86104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Yönetim ve Örgütsel Yapının Değişmes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Örgütsel yap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erkezileşm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erkezsizleştirm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rta düzey yönetimin yok olmas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önetim tarz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tokratik/resmi/hiyerarşik yapıdan daha gayri resmi/daha az hiyerarşik/daha katılımcı yapıya geçiş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ersonel üzerine etkiler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Belge Sağlama Hizmetleri 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Kullanıcı bilgileri bir kez girilmel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Bütün potansiyel kullanıcılar girilerek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Hizmet anında girilerek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Kullanıcıların hakları tanımlanmalı (örneğin, öğretim üyeleri belirli sayıda elektronik makale ısmarlayabilirler, vb. gibi.)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İstekler web ve e-posta aracılığıyla alınabilmeli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asılı kopyasına ya da tam metnine abone olunan dergilere bağlantılar yapılmal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Elektronik belge istekleri kütüphanede bulunan kaynaklarla otomatik olarak karşılaştırılmalı, dermede varsa kullanıcı uyarılmalı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Hizmetlerin Kişiselleştirilmes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Masaüstünün (ekran görünümü) kişiselleştirilmes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İçeriğin kişiselleştirilmesi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Örnek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yYahoo!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yLibrary (NCSU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5345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458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458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4582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Kullanıcı - Personel Eğitimi I 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anıtım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Web sayfası (genel) aracılığıyla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ütüphanenin ve dermelerin düzenli olarak tanıtılması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SS (Sıkça Sorulan Sorular) liste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ütüphane sitesinde arama olanağ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Her kaynağın kullanımıyla ilgili “kullanım kılavuzları” (web üzerinden ve etkileşimli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yLibrary” türü hizmetlerde danışma kütüphanecisine erişim bilgileri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Kullanıcı-Personel Eğitimi II 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Eğitim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ütüphane tartışma listesi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-posta aracılığıyla gelen sorula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ütüphane eğitim odas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Öğrencilere toplu sunuşlar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Öğretim üyeleriyle tek tek görüşmele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ersonel için sürekli eğitim seminerleri, konferanslar, kurslar düzenlenmes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13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00"/>
                </a:solidFill>
                <a:latin typeface="Arial"/>
              </a:rPr>
              <a:t>Elektronik Bilgi Hizmetleri </a:t>
            </a:r>
            <a:endParaRPr b="0" lang="en-US" sz="60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İçerikle İlgili İşlem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İçerik yönünden zengin sitelerin belirlenmesi (çevrimiçi kataloglar, ticari dizinler ve veri tabanları, Internet kaynakları, yerel kaynaklar, vd.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İçerik sunumu (teknik destek, yazdırma, indirme, e-posta, yardımcı uygulamalar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İçerik format(lar)ının seçim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İçeriğe Erişim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Yapı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ullanım sıklığına (çevrimiçi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ullanıcı gereksinimlerine (etkileşimli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Depolama ortamına (CD-ROM ağı vs.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aynak türüne (özel yazılım gerektirenler) 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itenin duyurulmas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ısıtlamala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rişim/Sunum Seçenekler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erçek” elektronik dergile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lektronik olarak erişilebilen basılı dergile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ütüphanelerarası ödünç verm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icari sağlayıcıla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elge sağlama hizmetlerinin bütünleşme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urumsal veri tabanlar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elecek?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100000"/>
              </a:lnSpc>
              <a:spcBef>
                <a:spcPts val="24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Lancaster-Sandore s. 146</a:t>
            </a:r>
            <a:endParaRPr b="0" lang="en-US" sz="1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Elektronik Bilgi Hizmeti Türleri 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ibliyografik tarama hizmetleri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üncel duyuru hizmetleri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İçindekiler sayfası hizmetleri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lektronik danışma hizmetler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lektronik rezerv hizmetler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Elektronik belge sağlama hizmetler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izmetlerin kişiselleştirilmes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Kullanıcı - personel eğitim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Bibliyografik Tarama Hizmetler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ütüphane sistemleri (Kongre Kütüphanesi, Portico, CDL, vd.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aha zengin künyeler (karş. Amazon.com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asılı kopyası olan kaynaklarla ilgili bilgile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am metin kopyalara bağlantıla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ternet kitapçılar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Bibliyografik ve tam metin veri tabanlar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asılı kopyası olan kaynakların elektronik tam metinlerine saydam erişim (SmartLink, CrossRef, SFX, MetaLib, TDNet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6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08:37:45Z</dcterms:created>
  <dc:creator>asd</dc:creator>
  <dc:description/>
  <dc:language>en-US</dc:language>
  <cp:lastModifiedBy>a</cp:lastModifiedBy>
  <cp:lastPrinted>2000-08-29T13:01:58Z</cp:lastPrinted>
  <dcterms:modified xsi:type="dcterms:W3CDTF">2000-08-31T22:21:32Z</dcterms:modified>
  <cp:revision>270</cp:revision>
  <dc:subject/>
  <dc:title>Elektronik Yayıncılık ve Bilimsel İletişim: Teknoloji, Ekonomi ve Arşivleme ile İlgili Sorunla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yunus.hacettepe.edu.tr/~tonta/tonta.html</vt:lpwstr>
  </property>
  <property fmtid="{D5CDD505-2E9C-101B-9397-08002B2CF9AE}" pid="9" name="LinkColor">
    <vt:r8>16711782</vt:r8>
  </property>
  <property fmtid="{D5CDD505-2E9C-101B-9397-08002B2CF9AE}" pid="10" name="MailAddress">
    <vt:lpwstr>tonta@hacettepe.edu.tr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ydocum\SUNUSLAR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