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46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071360" y="717120"/>
            <a:ext cx="4716360" cy="353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0800" y="4494240"/>
            <a:ext cx="5031000" cy="42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Tu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071720" y="71748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0800" y="4494240"/>
            <a:ext cx="5031000" cy="42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Temel yönelimler konusunda Lancaster ve Sandore’un kitabının ilgili bölümünden yararlanılabilir.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Internet’in kütüphane hizmetleri üzerine etkileri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Dijital kütüphane kavramı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Internet’in mesleki roller üzerine etkisi (sistem kütüphanecisi, elektronik sistem kütüphanecisi, Veri tabanı koordinatörü, içerik yöneticisi, ağ koordinatörü, elektronik bilgi hizmetleri kütüphanecisi, Internet kütüphanecisi…)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İletişim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Hizmet sağlamada perspektif değişikliği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Eğitim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Ağlaşma, veri paylaşımı ve standartlar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Kataloglama, dizinleme ve “metadata”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WWW: Internet’e kolay erişim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4760" y="0"/>
            <a:ext cx="2973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32" name=""/>
          <p:cNvSpPr/>
          <p:nvPr/>
        </p:nvSpPr>
        <p:spPr>
          <a:xfrm>
            <a:off x="3884760" y="8996400"/>
            <a:ext cx="2973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 Tur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996400"/>
            <a:ext cx="2971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1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1720" y="71748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0800" y="4494240"/>
            <a:ext cx="503100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071720" y="71748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0800" y="4494240"/>
            <a:ext cx="5031000" cy="42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EDITORIAL: Web Growth, Web Dangers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           </a:t>
            </a: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&lt;http://www.nua.ie/surveys/analysis/weekly_editorial.html&gt;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Not many people know this but the 15th of March, 1985 is a notable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date in Internet history. According to a newly compiled history of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the Internet written by David Goldstein of the Austrian domain name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authority, that was the day the first Internet domain name was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registered. That domain name was www.symbolics.com. In the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intervening 15 years, almost 18 million more domain names have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been registered and there are now about 10 million live websites.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Although these statistics seem staggering by themselves, they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pale in comparison to the numbers and implications in some other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recent reports. These suggest that the internet is growing far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more uncontrollably than is commonly known, and that there are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real dangers of the system breaking down entirely.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A study released last week by BrightPlanet, a South Dakota-based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start-up that has developed software to search the "deep Web",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says that search engines such as Yahoo! or Google only index the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content on the surface of the Internet. They do not delve into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the deep Web, which includes the increasing amount of information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stored in "giant evolving databases set up by government agencies,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universities and corporations".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Therefore, recent estimates of 1 or 2 billion for the number of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pages on the Internet are inadequate as they refer to the number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of 'surface' web pages. BrightPlanet says there are actually over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550 billion documents on the Internet. Five hundred and fifty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billion: that's about 90 documents online for every man, woman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and child on the planet.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For the full story, go to: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http://www.nua.ie/surveys/analysis/weekly_editorial/archives/issue1no137.html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824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57400"/>
            <a:ext cx="0" cy="559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" name=""/>
          <p:cNvSpPr/>
          <p:nvPr/>
        </p:nvSpPr>
        <p:spPr>
          <a:xfrm>
            <a:off x="4896360" y="1440"/>
            <a:ext cx="424764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Elektronik Kütüphanecilik Semineri”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4-8 Eylül 2000, Ankara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imes New Roman Tur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" name=""/>
          <p:cNvSpPr/>
          <p:nvPr/>
        </p:nvSpPr>
        <p:spPr>
          <a:xfrm>
            <a:off x="-412200" y="6600960"/>
            <a:ext cx="1139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chnical"/>
              </a:rPr>
              <a:t>Y.T.</a:t>
            </a: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</p:txBody>
      </p:sp>
      <p:pic>
        <p:nvPicPr>
          <p:cNvPr id="4" name="amblem" descr=""/>
          <p:cNvPicPr/>
          <p:nvPr/>
        </p:nvPicPr>
        <p:blipFill>
          <a:blip r:embed="rId3"/>
          <a:stretch/>
        </p:blipFill>
        <p:spPr>
          <a:xfrm>
            <a:off x="0" y="0"/>
            <a:ext cx="676440" cy="1095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spcBef>
                <a:spcPts val="601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 Tu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200" spc="-1" strike="noStrike">
                <a:solidFill>
                  <a:srgbClr val="ffff00"/>
                </a:solidFill>
                <a:latin typeface="Arial"/>
              </a:rPr>
              <a:t>Internet </a:t>
            </a:r>
            <a:br>
              <a:rPr sz="5200"/>
            </a:br>
            <a:r>
              <a:rPr b="1" lang="en-AU" sz="5200" spc="-1" strike="noStrike">
                <a:solidFill>
                  <a:srgbClr val="ffff00"/>
                </a:solidFill>
                <a:latin typeface="Arial"/>
              </a:rPr>
              <a:t>ve</a:t>
            </a:r>
            <a:br>
              <a:rPr sz="5200"/>
            </a:br>
            <a:r>
              <a:rPr b="1" lang="en-AU" sz="5200" spc="-1" strike="noStrike">
                <a:solidFill>
                  <a:srgbClr val="ffff00"/>
                </a:solidFill>
                <a:latin typeface="Arial"/>
              </a:rPr>
              <a:t>Kütüphanecilik</a:t>
            </a:r>
            <a:br>
              <a:rPr sz="5200"/>
            </a:br>
            <a:endParaRPr b="0" lang="en-US" sz="52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Bilgi Teknolojisi - İçerik Bütünleşmes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eni teknolojiler eskisinin yerini hemen almı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ilgiler değişik ortamlarda (kağıt, CD, mikrofiş, vs.) var olmaya devam edi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ağıt dışındaki ortamlar teknolojiyle birlikte “bohçalanmış” durumd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ski ortamlardaki bilgi kaynaklarının belirli aralarla yeni ortamlara aktarılması gerekli (teknoloji yenileme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İçeriğin bilgisayar ve iletişim teknolojileri ile birleştirilmesi için sağlam BT desteğine ihtiyaç va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Kütüphane” Tanım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ilgi kaynaklarını elektronik ortamlarda depolayan ve dağıtık bilgisayar sistemleri aracılığıyla erişim sağlayan kütüphane sistemi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ntellektüel düşünce ürünlerini içeren veri tabanlarından erişim programları aracılığıyla bazı materyallere erişime olanağı sağlayan kütüphane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lektronik kütüphane her yerde ama hiçbir yerde değil.”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0100"/>
                </a:solidFill>
                <a:latin typeface="Arial"/>
              </a:rPr>
              <a:t>Robert Wilensky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Kütüphane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429000"/>
            <a:ext cx="1905120" cy="838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3429000"/>
            <a:ext cx="1905120" cy="838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3429000"/>
            <a:ext cx="1905120" cy="8380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0" name=""/>
          <p:cNvSpPr/>
          <p:nvPr/>
        </p:nvSpPr>
        <p:spPr>
          <a:xfrm>
            <a:off x="1582200" y="3470400"/>
            <a:ext cx="164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 Tur"/>
              </a:rPr>
              <a:t>Kullanıcıla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1" name=""/>
          <p:cNvSpPr/>
          <p:nvPr/>
        </p:nvSpPr>
        <p:spPr>
          <a:xfrm>
            <a:off x="4096800" y="3394080"/>
            <a:ext cx="170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 Tur"/>
              </a:rPr>
              <a:t>Kullanıc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 Tur"/>
              </a:rPr>
              <a:t>Arabirimler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2" name=""/>
          <p:cNvSpPr/>
          <p:nvPr/>
        </p:nvSpPr>
        <p:spPr>
          <a:xfrm>
            <a:off x="6537600" y="339408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 Tur"/>
              </a:rPr>
              <a:t>Nesnele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3886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3886200"/>
            <a:ext cx="6094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905120"/>
            <a:ext cx="7925040" cy="39621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6" name=""/>
          <p:cNvSpPr/>
          <p:nvPr/>
        </p:nvSpPr>
        <p:spPr>
          <a:xfrm>
            <a:off x="2502000" y="4464000"/>
            <a:ext cx="42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Times New Roman Tur"/>
              </a:rPr>
              <a:t>Elektronik Kütüphane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Tanımlar Yeterli Mi?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lektronik”, “dijital”, “sanal”? Hangisi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anımlar yeterli değil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eleneksel kütüphane işlevlerini elektronik olarak yerine getirmek elektronik kütüphane kurmak değil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adece depolama ve erişim mekanizmaları kurmak yeterli değil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eçim, sağlama, düzenleme, erişim ve arşivleme konuları da elektronik kütüphane ile birlikte düşünülmeli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99"/>
                </a:solidFill>
                <a:latin typeface="Arial"/>
              </a:rPr>
              <a:t>Elektronik Kütüphane: </a:t>
            </a:r>
            <a:br>
              <a:rPr sz="4400"/>
            </a:br>
            <a:r>
              <a:rPr b="0" lang="en-AU" sz="4400" spc="-1" strike="noStrike">
                <a:solidFill>
                  <a:srgbClr val="ffff99"/>
                </a:solidFill>
                <a:latin typeface="Arial"/>
              </a:rPr>
              <a:t>“Her yerde ve hiçbir yerde”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3733920"/>
            <a:ext cx="2438280" cy="1295280"/>
          </a:xfrm>
          <a:prstGeom prst="ellipse">
            <a:avLst/>
          </a:prstGeom>
          <a:noFill/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1" name=""/>
          <p:cNvSpPr/>
          <p:nvPr/>
        </p:nvSpPr>
        <p:spPr>
          <a:xfrm>
            <a:off x="3582360" y="3807000"/>
            <a:ext cx="21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99"/>
                </a:solidFill>
                <a:latin typeface="Arial"/>
              </a:rPr>
              <a:t>Elektronik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99"/>
                </a:solidFill>
                <a:latin typeface="Arial"/>
              </a:rPr>
              <a:t>Kütüphan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2" name=""/>
          <p:cNvSpPr/>
          <p:nvPr/>
        </p:nvSpPr>
        <p:spPr>
          <a:xfrm>
            <a:off x="6080760" y="2401920"/>
            <a:ext cx="24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99"/>
                </a:solidFill>
                <a:latin typeface="Arial"/>
              </a:rPr>
              <a:t>Arama motorları,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99"/>
                </a:solidFill>
                <a:latin typeface="Arial"/>
              </a:rPr>
              <a:t>akıllı ajanla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3" name=""/>
          <p:cNvSpPr/>
          <p:nvPr/>
        </p:nvSpPr>
        <p:spPr>
          <a:xfrm>
            <a:off x="6085800" y="3240000"/>
            <a:ext cx="319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99"/>
                </a:solidFill>
                <a:latin typeface="Arial"/>
              </a:rPr>
              <a:t>Kişisel çevrimiçi habe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99"/>
                </a:solidFill>
                <a:latin typeface="Arial"/>
              </a:rPr>
              <a:t>servisler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4" name=""/>
          <p:cNvSpPr/>
          <p:nvPr/>
        </p:nvSpPr>
        <p:spPr>
          <a:xfrm>
            <a:off x="6084000" y="415440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99"/>
                </a:solidFill>
                <a:latin typeface="Arial"/>
              </a:rPr>
              <a:t>Ticari bağlantıla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5" name=""/>
          <p:cNvSpPr/>
          <p:nvPr/>
        </p:nvSpPr>
        <p:spPr>
          <a:xfrm>
            <a:off x="6159600" y="491652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99"/>
                </a:solidFill>
                <a:latin typeface="Arial"/>
              </a:rPr>
              <a:t>Toplum veri tabanlar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6" name=""/>
          <p:cNvSpPr/>
          <p:nvPr/>
        </p:nvSpPr>
        <p:spPr>
          <a:xfrm>
            <a:off x="2882880" y="560232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99"/>
                </a:solidFill>
                <a:latin typeface="Arial"/>
              </a:rPr>
              <a:t>Basılı kaynaklara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99"/>
                </a:solidFill>
                <a:latin typeface="Arial"/>
              </a:rPr>
              <a:t>bağlantıla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7" name=""/>
          <p:cNvSpPr/>
          <p:nvPr/>
        </p:nvSpPr>
        <p:spPr>
          <a:xfrm>
            <a:off x="2885040" y="224964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99"/>
                </a:solidFill>
                <a:latin typeface="Arial"/>
              </a:rPr>
              <a:t>Çevrimiçi dergile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8" name=""/>
          <p:cNvSpPr/>
          <p:nvPr/>
        </p:nvSpPr>
        <p:spPr>
          <a:xfrm>
            <a:off x="519840" y="2782800"/>
            <a:ext cx="2416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99"/>
                </a:solidFill>
                <a:latin typeface="Arial"/>
              </a:rPr>
              <a:t>Tartışma listeler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99"/>
                </a:solidFill>
                <a:latin typeface="Arial"/>
              </a:rPr>
              <a:t>Web rehberler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99"/>
                </a:solidFill>
                <a:latin typeface="Arial"/>
              </a:rPr>
              <a:t>Veri tabanlar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99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2819520"/>
            <a:ext cx="1295280" cy="91440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486400" y="3657240"/>
            <a:ext cx="609480" cy="30492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4419720"/>
            <a:ext cx="38088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876920"/>
            <a:ext cx="990720" cy="30456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5840" y="4952880"/>
            <a:ext cx="304920" cy="76212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5120" y="4800600"/>
            <a:ext cx="1676160" cy="45720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437920" y="4419720"/>
            <a:ext cx="838440" cy="7596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90920" y="3809520"/>
            <a:ext cx="838080" cy="22860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819520" y="3123720"/>
            <a:ext cx="914400" cy="76212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343400" y="2743200"/>
            <a:ext cx="76320" cy="99072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00"/>
                </a:solidFill>
                <a:latin typeface="Arial"/>
              </a:rPr>
              <a:t>Elektronik Kütüphanenin Temel Bileşenleri</a:t>
            </a:r>
            <a:endParaRPr b="0" lang="en-US" sz="4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lt yap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Ulusal Bilgi Alt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pısı: Okulları, evleri, işyerlerini, hastaneleri, vs. birbirine cam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ve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ya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akır kablolarla bağlayan ağlar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ilgi otoyolu”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İçeri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ilgi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(veri, ses, hareketli görüntüler, vs.)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Kalkınmanın kan damarlar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kabet edebilmenin “olmazsa olmaz” koşulu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ağıtık dijital kütüphane”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Elektronik Kütüphane </a:t>
            </a: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Yönetim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Zaman ve mekan kısıtlamalarının ortadan kalkmas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Yeni programlar ve yeni öğrenme ve araştırma toplulukları ortaya çıkmas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lektronik dermelerin spesifik konulardaki ortak projelerle bütünleşmes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lt yapı gereksinimler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ğitim (personel-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kullanıcı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eğitimi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racısızlaştırma”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Mesleki roller üzerine etkis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lektronik b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lginin fiyatlandırılması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Güvenlik, koruma, arşivleme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ntellektüel mülkiyet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ak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arı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ürkiye’de 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Elektronik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ilgi Hizmetlerinin Durumu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5146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lektronik bilgiye büyük ilgi va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lektronik bilgi yönetimi daha da önem kazanı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ütüphaneler de bu ilgiye cevap vermeye çalışıyor. Ancak..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Yetersiz dermele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Yetersiz bütçele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 yapı eksikliğ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etişmiş insangücü eksikliğ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1440" indent="-2426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şbirliği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eksikliğ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ffff00"/>
                </a:solidFill>
                <a:latin typeface="Arial"/>
              </a:rPr>
              <a:t>Internet</a:t>
            </a:r>
            <a:br>
              <a:rPr sz="5400"/>
            </a:br>
            <a:r>
              <a:rPr b="1" lang="en-AU" sz="5400" spc="-1" strike="noStrike">
                <a:solidFill>
                  <a:srgbClr val="ffff00"/>
                </a:solidFill>
                <a:latin typeface="Arial"/>
              </a:rPr>
              <a:t> ve</a:t>
            </a:r>
            <a:br>
              <a:rPr sz="5400"/>
            </a:br>
            <a:r>
              <a:rPr b="1" lang="en-AU" sz="5400" spc="-1" strike="noStrike">
                <a:solidFill>
                  <a:srgbClr val="ffff00"/>
                </a:solidFill>
                <a:latin typeface="Arial"/>
              </a:rPr>
              <a:t>Kütüphanecilik</a:t>
            </a:r>
            <a:endParaRPr b="0" lang="en-US" sz="5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azı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öngörü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nternet ve kütüphanecili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ürkiye’de duru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onuç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Bazı 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Öngörü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Nerede o eski gelecekler?”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(Paul Valery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u icada (telefon) ne gerek var? Mesajları getirip götürecek birçok çocuk var.” Amerikan Posta Ofisi Başmühendisi, 1876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er kasaba bir telefona sahip olmak isteyebilir.” ABD PTT Genel Müdürü, 1886.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lefon milyonları ilgilendiren bir olay değil. Zenginler için bir kolaylık; parasını ödeyebilecekler için ticari bir araç.” 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Times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, 1902.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anırım dünya pazarında beş bilgisayar belki satılır.” Thomas Watson, IBM Başkanı, 1943.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ilgisayarların ağırlığı gelecekte 1.5 tonu geçmeyecektir.” </a:t>
            </a:r>
            <a:r>
              <a:rPr b="0" i="1" lang="en-AU" sz="2400" spc="-1" strike="noStrike">
                <a:solidFill>
                  <a:srgbClr val="ffffff"/>
                </a:solidFill>
                <a:latin typeface="Arial"/>
              </a:rPr>
              <a:t>Popular Mechanics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, 1949.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Internet Nedir?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ğların ağı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ünyada yaklaşık 5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0 milyon bilgisayar Internet’e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bağlı; yaklaşık 275 milyon kullanıcı ve 7 milyon web sitesi var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Türkiye’de yaklaşık 100.000 bilgisayar Internet’e bağlı; yaklaşık 1 milyon kullanıcı ve 8 bin web sitesi var</a:t>
            </a: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Internet 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Araçlar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lektronik pos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erçek zamanl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uygulamalar (telnet, rlogin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osya aktar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(ftp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art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 listeleri ve haber gruplar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ophe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orld-Wide Web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Internet Üzerindeki Bilgi Kaynaklar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ütüphane katalogları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ibliyografik veri tabanlar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lektronik dokümanlar ve süreli yayınla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lektronik tartışma listeleri ve haber öbekler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azılım arşivler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es ve görüntü arşivleri (hava ve uydu fotoğrafları,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vs.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ullanıcı bilgiler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Yayın Sayısındaki Artış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ütüphane dermeleri her 14 yılda bir ikiye katlanıyor. (2</a:t>
            </a:r>
            <a:r>
              <a:rPr b="0" lang="en-AU" sz="2800" spc="-1" strike="noStrike" baseline="30000">
                <a:solidFill>
                  <a:srgbClr val="ffffff"/>
                </a:solidFill>
                <a:latin typeface="Arial"/>
              </a:rPr>
              <a:t>27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=134 milyon kitap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ongre Kütüphanesindeki yayın sayısı, OCLC veri tabanındaki kayıt sayısı, dünya kütüphanelerindeki yayın sayıs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ternet’teki belge sayısı 1-2 milyar sayfa civarında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. Kimileri (BrightPlanet) bunun 550 milyar sayfa olduğunu öne sürüyor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“Web Growth, Web Dangers” (Editorial) </a:t>
            </a:r>
            <a:r>
              <a:rPr b="0" i="1" lang="tr-TR" sz="1000" spc="-1" strike="noStrike">
                <a:solidFill>
                  <a:srgbClr val="ffffff"/>
                </a:solidFill>
                <a:latin typeface="Arial"/>
              </a:rPr>
              <a:t>NUA Internet Surveys,</a:t>
            </a:r>
            <a:r>
              <a:rPr b="0" lang="tr-TR" sz="1000" spc="-1" strike="noStrike">
                <a:solidFill>
                  <a:srgbClr val="ffffff"/>
                </a:solidFill>
                <a:latin typeface="Arial"/>
              </a:rPr>
              <a:t> 31 Temmuz 2000,</a:t>
            </a: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 &lt;http://www.nua.ie/surveys/analysis/weekly_editorial.html&gt;)</a:t>
            </a:r>
            <a:endParaRPr b="0" lang="en-US" sz="1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Bibliyografik Denetim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aynakçalar, kataloglar, dizinler, özler vs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ternet’teki dokümanların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rı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ömrü ortalama 43 gün! Bir kitabın kataloglanarak rafa çıkması ortalama 6 ay alıyor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Çoklu ortam türü “belgeler”in denetim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Teknolojik Gelişme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ilgi üretmek ve yaymak için kullanılan teknoloji; bu bilgiyi bulmak, süzmek, düzenlemek ve özetlemek için bir yöntem yoksa yararsızdır.”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ilgisayarları insan düşüncesini her yönüyle destekleyen bir araç haline getirebilmek ancak kütüphanelerin içeriği ile bilgisayar ve iletişim teknolojilerini birleştirmekle mümkün olabilir.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08:37:45Z</dcterms:created>
  <dc:creator>asd</dc:creator>
  <dc:description/>
  <dc:language>en-US</dc:language>
  <cp:lastModifiedBy>a</cp:lastModifiedBy>
  <cp:lastPrinted>2000-03-28T13:47:03Z</cp:lastPrinted>
  <dcterms:modified xsi:type="dcterms:W3CDTF">2000-08-31T17:03:46Z</dcterms:modified>
  <cp:revision>161</cp:revision>
  <dc:subject/>
  <dc:title>Elektronik Yayıncılık ve Bilimsel İletişim: Teknoloji, Ekonomi ve Arşivleme ile İlgili Sorunla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yunus.hacettepe.edu.tr/~tonta/tonta.html</vt:lpwstr>
  </property>
  <property fmtid="{D5CDD505-2E9C-101B-9397-08002B2CF9AE}" pid="9" name="LinkColor">
    <vt:r8>16711782</vt:r8>
  </property>
  <property fmtid="{D5CDD505-2E9C-101B-9397-08002B2CF9AE}" pid="10" name="MailAddress">
    <vt:lpwstr>tonta@hacettepe.edu.t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ydocum\SUNUSLAR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