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467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46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071360" y="717120"/>
            <a:ext cx="4716360" cy="353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Tu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 Tur"/>
              </a:rPr>
              <a:t>Bu sunuşun slaytları aşağıdaki makaleden yararlanılarak hazırlanmıştır: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 Tur"/>
              </a:rPr>
              <a:t>Trisha L. Davis and John J. Reilly, “Understandinfg license agreements for electronic products.” </a:t>
            </a:r>
            <a:r>
              <a:rPr b="0" i="1" lang="tr-TR" sz="1200" spc="-1" strike="noStrike">
                <a:solidFill>
                  <a:srgbClr val="000000"/>
                </a:solidFill>
                <a:latin typeface="Times New Roman Tur"/>
              </a:rPr>
              <a:t>Serials Librarian</a:t>
            </a:r>
            <a:r>
              <a:rPr b="0" lang="tr-TR" sz="1200" spc="-1" strike="noStrike">
                <a:solidFill>
                  <a:srgbClr val="000000"/>
                </a:solidFill>
                <a:latin typeface="Times New Roman Tur"/>
              </a:rPr>
              <a:t> 34(1-2): 247-260, 1998.</a:t>
            </a:r>
            <a:endParaRPr b="0" lang="en-US" sz="12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071720" y="71748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0800" y="4494240"/>
            <a:ext cx="5031000" cy="426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000000"/>
                </a:solidFill>
                <a:latin typeface="Times New Roman Tur"/>
              </a:rPr>
              <a:t>(eğer bir başka firma satın aldığınız kaynaktaki bir makalenin telif hakkının kendisinde olduğunu, kullanıcılarınızın indirmesine izin verdiğiniz için sizi mahkemeye vereceğini söylerse, size o ürünü satan firma sizi savunmalı ve masraflarınızı ödemeli; böyle bir madde koydurmalısınız)</a:t>
            </a:r>
            <a:endParaRPr b="0" lang="en-US" sz="900" spc="-1" strike="noStrike">
              <a:solidFill>
                <a:srgbClr val="000000"/>
              </a:solidFill>
              <a:latin typeface="Times New Roman Tur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 Tur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824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1157400"/>
            <a:ext cx="0" cy="559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2" name=""/>
          <p:cNvSpPr/>
          <p:nvPr/>
        </p:nvSpPr>
        <p:spPr>
          <a:xfrm>
            <a:off x="4896360" y="1440"/>
            <a:ext cx="4247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Elektronik Kütüphanecilik Semineri”</a:t>
            </a:r>
            <a:endParaRPr b="0" lang="en-US" sz="18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4-8 Eylül 2000, Ankara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imes New Roman Tur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3" name=""/>
          <p:cNvSpPr/>
          <p:nvPr/>
        </p:nvSpPr>
        <p:spPr>
          <a:xfrm>
            <a:off x="-412200" y="6600960"/>
            <a:ext cx="1139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chnical"/>
              </a:rPr>
              <a:t>Y.T.</a:t>
            </a:r>
            <a:endParaRPr b="0" lang="en-US" sz="1200" spc="-1" strike="noStrike">
              <a:solidFill>
                <a:srgbClr val="ffffff"/>
              </a:solidFill>
              <a:latin typeface="Times New Roman Tur"/>
            </a:endParaRPr>
          </a:p>
        </p:txBody>
      </p:sp>
      <p:pic>
        <p:nvPicPr>
          <p:cNvPr id="4" name="amblem" descr=""/>
          <p:cNvPicPr/>
          <p:nvPr/>
        </p:nvPicPr>
        <p:blipFill>
          <a:blip r:embed="rId3"/>
          <a:stretch/>
        </p:blipFill>
        <p:spPr>
          <a:xfrm>
            <a:off x="0" y="0"/>
            <a:ext cx="676440" cy="10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 Tur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 Tu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 Tu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 Tur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2" marL="1143000" indent="-228600">
              <a:spcBef>
                <a:spcPts val="601"/>
              </a:spcBef>
              <a:buClr>
                <a:srgbClr val="ff7f00"/>
              </a:buClr>
              <a:buSzPct val="63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 Tur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Times New Roman Tur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 Tu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Tur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200" spc="-1" strike="noStrike">
                <a:solidFill>
                  <a:srgbClr val="ffff00"/>
                </a:solidFill>
                <a:latin typeface="Arial"/>
              </a:rPr>
              <a:t>Elektronik Bilgi Kaynakları İçin Lisans Anlaşmaları</a:t>
            </a:r>
            <a:br>
              <a:rPr sz="5200"/>
            </a:br>
            <a:endParaRPr b="0" lang="en-US" sz="52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Elektronik Bilginin Fiyatlandırılmas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Erişimi sınırlayan karmaşık fiyatlandırma mekanizma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ntrat hukuku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Lisans Anlaşmaları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Arial"/>
              </a:rPr>
              <a:t>Yasal arka plan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Bir tür yasal kontrat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ütüphanecinin lisans anlaşması imzalama yetki ve sorumluluğu var mı?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ütüphaneci-hukukçu ilişkisi</a:t>
            </a:r>
            <a:endParaRPr b="0" lang="en-US" sz="36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00"/>
                </a:solidFill>
                <a:latin typeface="Arial"/>
              </a:rPr>
              <a:t>Lisanslandırma İçin Pratik Öneriler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ütüphane ve kullanıcılar üzerindeki etki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Kütüphane kullanıcılarının, siteelrinin ve kampus birimlerinin tanımlanma gereğ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Genel lisans terimlerinin anlaşılmas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akım çalışması: koleksiyon geliştirme, kullanıcı hizmetleri, otomasyon, hukukçular vd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Eğitim lisansın bir parçası değil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Arşivleme gereksinimler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-245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iyatlandırma modelleri anlaşılmalı ve buna yetecek kadar para olmal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39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ffffff"/>
                </a:solidFill>
                <a:latin typeface="Arial"/>
              </a:rPr>
              <a:t>Kaynak:  C:\My Documents\mydocum\COURSES\kut657\epublishing-article4.htm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Lisans Anlaşmasının Temel Ögeleri - 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Kontratın amacı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anımla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Çok önemli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Genellikle şablon kullanılıyor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radığınız tanım yoksa ya da tatminkar değilse kendi tanımınızı yazıp ekleyin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ite” ya da “kullanıcı”nın eksik tanımlandığını bir düşünün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Lisansın ürün kullanımı için kütüphaneye ya da kullanıcıya sağladığı haklar (license grant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Ne yapabilirsiniz (olanaklar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Ne yapamazsınız (kısıtlamalar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Ne yapmalısınız (zorunluluklar)</a:t>
            </a: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Lisans Anlaşmasının Temel Ögeleri - 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Mülkiyet hakları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elif, patent vs.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ütüphanenin ürün üzerinde telif hakkı iddia edebilecek üçüncü partilere karşı korunması 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aranti (satın alınan ürünün belli kalite ve performans standartlarına uygunluğu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Garanti süresinin uzunluğu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Çalınan/kaybolan ürünler için ne yapılabileceğ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ürekli erişim garantis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Lisans Anlaşmasının Temel Ögeleri - III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orumluluğun sınırları (yanlış kullanımdan ya da fiziksel hasardan kaynaklanan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Günlemele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Ödeme ve yenileme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Süre ve fesih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Üçüncü partiye devir (firma el değiştirirse ürün üzerindeki haklarınızın devamı)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Taraflar gönülsüz olarak haklarından vazgeçmezler; bir kez kontrata uyulmadığında yaptırım uygulanmaması hep uygulanmayacak anlamına gelmiyor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Lisans anlaşmasında bağlayıcı yasa hangisi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ff00"/>
                </a:solidFill>
                <a:latin typeface="Arial"/>
              </a:rPr>
              <a:t>Lisans Anlaşmasının Temel Ögeleri - IV</a:t>
            </a:r>
            <a:endParaRPr b="0" lang="en-US" sz="44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Resmi iletişim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laşmanın bir bölümünün iptal edilmesi diğerlerinin de iptalini ya da anlaşmanın tamamını etkilememeli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Anlaşmanın tamamı (ekleri, önceki anlaşmalarla ilişkisi vs.)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Doğal afetlerden vs. kaynaklanan sorunlar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asal danişmanlık alma</a:t>
            </a:r>
            <a:endParaRPr b="0" lang="en-US" sz="32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Tur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2057040"/>
            <a:ext cx="87627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200" spc="-1" strike="noStrike">
                <a:solidFill>
                  <a:srgbClr val="ffff00"/>
                </a:solidFill>
                <a:latin typeface="Arial"/>
              </a:rPr>
              <a:t>Elektronik Bilgi Kaynakları İçin Lisans Anlaşmaları</a:t>
            </a:r>
            <a:r>
              <a:rPr b="1" lang="en-AU" sz="5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5200"/>
            </a:br>
            <a:endParaRPr b="0" lang="en-US" sz="5200" spc="-1" strike="noStrike">
              <a:solidFill>
                <a:srgbClr val="ffff00"/>
              </a:solidFill>
              <a:latin typeface="Times New Roman Tu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047760" y="5029200"/>
            <a:ext cx="609444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Yaşar Tonta</a:t>
            </a:r>
            <a:endParaRPr b="0" lang="en-US" sz="28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.Ü. Kütüphanecilik Bölümü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tonta@hacettepe.edu.tr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yunus.hacettepe.edu.tr/~tonta/tonta.html</a:t>
            </a: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 Tur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5T08:37:45Z</dcterms:created>
  <dc:creator>asd</dc:creator>
  <dc:description/>
  <dc:language>en-US</dc:language>
  <cp:lastModifiedBy>a</cp:lastModifiedBy>
  <cp:lastPrinted>2000-03-28T13:47:03Z</cp:lastPrinted>
  <dcterms:modified xsi:type="dcterms:W3CDTF">2000-08-31T19:22:18Z</dcterms:modified>
  <cp:revision>138</cp:revision>
  <dc:subject/>
  <dc:title>Elektronik Yayıncılık ve Bilimsel İletişim: Teknoloji, Ekonomi ve Arşivleme ile İlgili Sorunlar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yunus.hacettepe.edu.tr/~tonta/tonta.html</vt:lpwstr>
  </property>
  <property fmtid="{D5CDD505-2E9C-101B-9397-08002B2CF9AE}" pid="9" name="LinkColor">
    <vt:r8>16711782</vt:r8>
  </property>
  <property fmtid="{D5CDD505-2E9C-101B-9397-08002B2CF9AE}" pid="10" name="MailAddress">
    <vt:lpwstr>tonta@hacettepe.edu.tr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mydocum\SUNUSLAR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