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46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071360" y="717120"/>
            <a:ext cx="4716360" cy="353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 Tur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0800" y="4494240"/>
            <a:ext cx="5031000" cy="426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Tu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071720" y="71748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0800" y="4494240"/>
            <a:ext cx="5031000" cy="426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 Tur"/>
              </a:rPr>
              <a:t>Kaynak: Michael Breaks, “Management of Electronic Information” in Collection Management in Academic Libraries. Ed. By Claire Jenkins and Mary Morley. 2d. Ed. Hampshire: Gower, 1999. P. 107-134. 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8248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1157400"/>
            <a:ext cx="0" cy="559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" name=""/>
          <p:cNvSpPr/>
          <p:nvPr/>
        </p:nvSpPr>
        <p:spPr>
          <a:xfrm>
            <a:off x="4896360" y="1440"/>
            <a:ext cx="424764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Elektronik Kütüphanecilik Semineri”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ffffff"/>
                </a:solidFill>
                <a:latin typeface="Arial"/>
              </a:rPr>
              <a:t>4-8 Eylül 2000, Ankara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imes New Roman Tur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" name=""/>
          <p:cNvSpPr/>
          <p:nvPr/>
        </p:nvSpPr>
        <p:spPr>
          <a:xfrm>
            <a:off x="-412200" y="6600960"/>
            <a:ext cx="1139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chnical"/>
              </a:rPr>
              <a:t>Y.T.</a:t>
            </a:r>
            <a:endParaRPr b="0" lang="en-US" sz="1200" spc="-1" strike="noStrike">
              <a:solidFill>
                <a:srgbClr val="ffffff"/>
              </a:solidFill>
              <a:latin typeface="Times New Roman Tur"/>
            </a:endParaRPr>
          </a:p>
        </p:txBody>
      </p:sp>
      <p:pic>
        <p:nvPicPr>
          <p:cNvPr id="4" name="amblem" descr=""/>
          <p:cNvPicPr/>
          <p:nvPr/>
        </p:nvPicPr>
        <p:blipFill>
          <a:blip r:embed="rId3"/>
          <a:stretch/>
        </p:blipFill>
        <p:spPr>
          <a:xfrm>
            <a:off x="0" y="0"/>
            <a:ext cx="676440" cy="1095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 Tur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Tu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Tur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spcBef>
                <a:spcPts val="601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Tur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imes New Roman Tur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Elektronik </a:t>
            </a:r>
            <a:r>
              <a:rPr b="1" lang="tr-TR" sz="6000" spc="-1" strike="noStrike">
                <a:solidFill>
                  <a:srgbClr val="ffff00"/>
                </a:solidFill>
                <a:latin typeface="Arial"/>
              </a:rPr>
              <a:t>Bilgi</a:t>
            </a: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 Yönetimi 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Yaşar Ton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onta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ttp://yunus.hacettepe.edu.tr/~tonta/tonta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Elektronik Bilgi Mimarisi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rekli elektronik bilgi kaynaklarını bularak insanların bilgi gereksinimlerini karşılamak için kullanılan araç-gereç; bilgi teknolojisi 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ikkat: Elektronik bilgi mimarisi elektronik bilgi kültür ve davranışlarını (pek) değiştirmiyor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Elektronik Bilgi Teknolojisi 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8458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Bilgi üretmek ve yaymak için kullanılan teknoloji; bu bilgiyi bulmak, süzmek, düzenlemek ve özetlemek için bir yöntem yoksa,  yararsızdır.”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İçerik-teknoloji bütünleşmesi; “bohçalama”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1f22"/>
                </a:solidFill>
                <a:latin typeface="Arial"/>
              </a:rPr>
              <a:t>Hal Varian, “The information economy” </a:t>
            </a:r>
            <a:r>
              <a:rPr b="0" i="1" lang="en-AU" sz="1600" spc="-1" strike="noStrike">
                <a:solidFill>
                  <a:srgbClr val="001f22"/>
                </a:solidFill>
                <a:latin typeface="Arial"/>
              </a:rPr>
              <a:t>Scientific American </a:t>
            </a:r>
            <a:r>
              <a:rPr b="0" lang="en-AU" sz="1600" spc="-1" strike="noStrike">
                <a:solidFill>
                  <a:srgbClr val="001f22"/>
                </a:solidFill>
                <a:latin typeface="Arial"/>
              </a:rPr>
              <a:t>273: 161-162, Sep. 1995.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lektronik Bilgi Yönetimine Mekanik Yaklaşım</a:t>
            </a:r>
            <a:endParaRPr b="0" lang="en-US" sz="5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ktronik bilgi çevreleri tasarlanırken kullanılan araçların çoğu mühendislik ve mimarlıktan geliyor. Bir bina ya da güç kaynağı tasarlarken geçerli olabilecek varsayımlara güveniliyor, ancak bu varsayımlar örgütler için nadiren geçerli olabiliyo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lvl="4" marL="17485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avenport, 1997: 8</a:t>
            </a:r>
            <a:endParaRPr b="0" lang="en-US" sz="1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Elektronik Bilgi Yönetimi ve Tom Peters</a:t>
            </a:r>
            <a:endParaRPr b="0" lang="en-US" sz="5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ilgi yönetiminde başarı %5 teknoloji, %95 psikolojidir.”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Çünkü sorunların %80’i teknolojiden değil, insanlardan kaynaklanıyor.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venport, 1997: 8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Sonuç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ektronik bilgi yönetimi = Teknolojiye yatırım yapmak” yaklaşımı sorunları çözmek için yeterli değil.  </a:t>
            </a:r>
            <a:endParaRPr b="0" lang="en-US" sz="40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gi çevresi” yaklaşımı (bütüncül yaklaşım, sosyo-teknik tasarım) yeğlenmeli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1" lang="en-AU" sz="5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Elektronik </a:t>
            </a:r>
            <a:r>
              <a:rPr b="1" lang="tr-TR" sz="6000" spc="-1" strike="noStrike">
                <a:solidFill>
                  <a:srgbClr val="ffff00"/>
                </a:solidFill>
                <a:latin typeface="Arial"/>
              </a:rPr>
              <a:t>Bilgi</a:t>
            </a: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 Yönetimi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Yaşar Ton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onta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ttp://yunus.hacettepe.edu.tr/~tonta/tonta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Elektronik Bilgi Çevresi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ffffff"/>
                </a:solidFill>
                <a:latin typeface="Arial"/>
              </a:rPr>
              <a:t>Bilgi ile ilgili insanlar, süreçler, teknoloji, politika ve stratejiler, kültür ve davranışlar arasındaki çapraz ilişkiler bütünü</a:t>
            </a:r>
            <a:r>
              <a:rPr b="0" lang="en-A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 Tur"/>
            </a:endParaRPr>
          </a:p>
          <a:p>
            <a:pPr marL="3326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 Tur"/>
            </a:endParaRPr>
          </a:p>
          <a:p>
            <a:pPr marL="3326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14600" y="3124080"/>
            <a:ext cx="4572000" cy="3733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1905120"/>
            <a:ext cx="6476760" cy="49528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914400"/>
            <a:ext cx="8153640" cy="59436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3200400"/>
            <a:ext cx="1295280" cy="91440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334120" y="3733920"/>
            <a:ext cx="1295280" cy="99036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3886200"/>
            <a:ext cx="1219320" cy="83808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5181480"/>
            <a:ext cx="1219320" cy="99072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5181480"/>
            <a:ext cx="1295280" cy="10670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5562720"/>
            <a:ext cx="1295280" cy="99036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46483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f22"/>
                </a:solidFill>
                <a:latin typeface="TFF Ecouson"/>
              </a:rPr>
              <a:t>Elektronik Bilgi Çevres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66" name=""/>
          <p:cNvSpPr/>
          <p:nvPr/>
        </p:nvSpPr>
        <p:spPr>
          <a:xfrm>
            <a:off x="2556000" y="2133720"/>
            <a:ext cx="4302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FF Ecouson"/>
              </a:rPr>
              <a:t>Örgütsel Çevre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FF Ecouson"/>
              </a:rPr>
              <a:t>İş . Fizik . Teknoloj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930240"/>
            <a:ext cx="3352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FF Ecouson"/>
              </a:rPr>
              <a:t>Dış Çevre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FF Ecouson"/>
              </a:rPr>
              <a:t>İş . Bilgi . Teknoloj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68" name=""/>
          <p:cNvSpPr/>
          <p:nvPr/>
        </p:nvSpPr>
        <p:spPr>
          <a:xfrm>
            <a:off x="4168080" y="3429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f22"/>
                </a:solidFill>
                <a:latin typeface="TFF Ecouson"/>
              </a:rPr>
              <a:t>Persone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5486400"/>
            <a:ext cx="121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f22"/>
                </a:solidFill>
                <a:latin typeface="TFF Ecouson"/>
              </a:rPr>
              <a:t>Politika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0" name=""/>
          <p:cNvSpPr/>
          <p:nvPr/>
        </p:nvSpPr>
        <p:spPr>
          <a:xfrm>
            <a:off x="4294800" y="58197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f22"/>
                </a:solidFill>
                <a:latin typeface="TFF Ecouson"/>
              </a:rPr>
              <a:t>Mimar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f22"/>
                </a:solidFill>
                <a:latin typeface="TFF Ecouson"/>
              </a:rPr>
              <a:t>Süreç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2" name=""/>
          <p:cNvSpPr/>
          <p:nvPr/>
        </p:nvSpPr>
        <p:spPr>
          <a:xfrm>
            <a:off x="2864520" y="41148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f22"/>
                </a:solidFill>
                <a:latin typeface="TFF Ecouson"/>
              </a:rPr>
              <a:t>Stratej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38098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f22"/>
                </a:solidFill>
                <a:latin typeface="TFF Ecouson"/>
              </a:rPr>
              <a:t>Kültür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f22"/>
                </a:solidFill>
                <a:latin typeface="TFF Ecouson"/>
              </a:rPr>
              <a:t>Davranış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038480" y="4114800"/>
            <a:ext cx="762120" cy="380880"/>
          </a:xfrm>
          <a:prstGeom prst="line">
            <a:avLst/>
          </a:prstGeom>
          <a:ln w="6480">
            <a:solidFill>
              <a:srgbClr val="001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885840" y="4495680"/>
            <a:ext cx="152280" cy="838440"/>
          </a:xfrm>
          <a:prstGeom prst="line">
            <a:avLst/>
          </a:prstGeom>
          <a:ln w="3240">
            <a:solidFill>
              <a:srgbClr val="001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114800"/>
            <a:ext cx="609480" cy="380880"/>
          </a:xfrm>
          <a:prstGeom prst="line">
            <a:avLst/>
          </a:prstGeom>
          <a:ln w="3240">
            <a:solidFill>
              <a:srgbClr val="001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4419720"/>
            <a:ext cx="228600" cy="1143000"/>
          </a:xfrm>
          <a:prstGeom prst="line">
            <a:avLst/>
          </a:prstGeom>
          <a:ln w="3240">
            <a:solidFill>
              <a:srgbClr val="001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876560" y="5562720"/>
            <a:ext cx="685800" cy="0"/>
          </a:xfrm>
          <a:prstGeom prst="line">
            <a:avLst/>
          </a:prstGeom>
          <a:ln w="3240">
            <a:solidFill>
              <a:srgbClr val="001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886200" y="4419720"/>
            <a:ext cx="1447920" cy="914400"/>
          </a:xfrm>
          <a:prstGeom prst="line">
            <a:avLst/>
          </a:prstGeom>
          <a:ln w="3240">
            <a:solidFill>
              <a:srgbClr val="001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5334120"/>
            <a:ext cx="990720" cy="228600"/>
          </a:xfrm>
          <a:prstGeom prst="line">
            <a:avLst/>
          </a:prstGeom>
          <a:ln w="3240">
            <a:solidFill>
              <a:srgbClr val="001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038480" y="4495680"/>
            <a:ext cx="1524240" cy="1067040"/>
          </a:xfrm>
          <a:prstGeom prst="line">
            <a:avLst/>
          </a:prstGeom>
          <a:ln w="3240">
            <a:solidFill>
              <a:srgbClr val="001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4571640" y="4876560"/>
            <a:ext cx="304920" cy="685800"/>
          </a:xfrm>
          <a:prstGeom prst="line">
            <a:avLst/>
          </a:prstGeom>
          <a:ln w="3240">
            <a:solidFill>
              <a:srgbClr val="001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886200" y="4114440"/>
            <a:ext cx="914400" cy="1143000"/>
          </a:xfrm>
          <a:prstGeom prst="line">
            <a:avLst/>
          </a:prstGeom>
          <a:ln w="3240">
            <a:solidFill>
              <a:srgbClr val="001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4114800"/>
            <a:ext cx="762120" cy="1447920"/>
          </a:xfrm>
          <a:prstGeom prst="line">
            <a:avLst/>
          </a:prstGeom>
          <a:ln w="3240">
            <a:solidFill>
              <a:srgbClr val="001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5" name=""/>
          <p:cNvSpPr/>
          <p:nvPr/>
        </p:nvSpPr>
        <p:spPr>
          <a:xfrm>
            <a:off x="6650640" y="6583320"/>
            <a:ext cx="25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FF Ecouson"/>
              </a:rPr>
              <a:t>Davenport,1997: 34’ten uyarlama</a:t>
            </a:r>
            <a:endParaRPr b="0" lang="en-US" sz="1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5334120"/>
            <a:ext cx="1676520" cy="228600"/>
          </a:xfrm>
          <a:prstGeom prst="line">
            <a:avLst/>
          </a:prstGeom>
          <a:ln w="3240">
            <a:solidFill>
              <a:srgbClr val="001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Elektronik Bilgi Stratejisi ve Politikaları</a:t>
            </a:r>
            <a:endParaRPr b="0" lang="en-US" sz="48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trateji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 Bilgi ile ne yapmak istiyoruz?</a:t>
            </a:r>
            <a:endParaRPr b="0" lang="en-US" sz="4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litik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 Potansiyel bir güç olan bilginin yönetimi ve kullanımı ile ilgili politikalar</a:t>
            </a:r>
            <a:endParaRPr b="0" lang="en-US" sz="4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Elektronik Bilginin Denetimi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3733920"/>
            <a:ext cx="27432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373392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3733920"/>
            <a:ext cx="198108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93" name=""/>
          <p:cNvSpPr/>
          <p:nvPr/>
        </p:nvSpPr>
        <p:spPr>
          <a:xfrm>
            <a:off x="441360" y="3978360"/>
            <a:ext cx="321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ha fazla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kezi denetim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39625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ha az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kezi denetim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95" name=""/>
          <p:cNvSpPr/>
          <p:nvPr/>
        </p:nvSpPr>
        <p:spPr>
          <a:xfrm>
            <a:off x="441720" y="296244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narş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96" name=""/>
          <p:cNvSpPr/>
          <p:nvPr/>
        </p:nvSpPr>
        <p:spPr>
          <a:xfrm>
            <a:off x="2440800" y="2973240"/>
            <a:ext cx="18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ederalizm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29718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eodalizm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98" name=""/>
          <p:cNvSpPr/>
          <p:nvPr/>
        </p:nvSpPr>
        <p:spPr>
          <a:xfrm>
            <a:off x="7148520" y="296244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arş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6248520"/>
            <a:ext cx="15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avenport, 1997: 69</a:t>
            </a:r>
            <a:endParaRPr b="0" lang="en-US" sz="1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Bilginin Denetimi ve Toffler</a:t>
            </a:r>
            <a:endParaRPr b="0" lang="en-US" sz="5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763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“…</a:t>
            </a: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bilgiyi düzenleme biçimimiz çoğu zaman insanları organize ediş biçimimizi saptar ve bunun tersi de geçerlidir.”</a:t>
            </a:r>
            <a:endParaRPr b="0" lang="en-US" sz="54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ffler, 1992: 191</a:t>
            </a:r>
            <a:endParaRPr b="0" lang="en-US" sz="1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Bilgi Davranışı ve Kültürü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rey, grup ya da örgütlerin bilgiye yaklaşım, tutum ve davranışları ve bilgiyi kullanma biçimleri (arama, yararlanma, değiştirme, paylaşma, saklama, görmezden gelme, vs.) </a:t>
            </a:r>
            <a:endParaRPr b="0" lang="en-US" sz="4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Elektronik Bilgi Personeli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8915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İnsanlar halen (hâlâ?) en iyi elektronik bilgi bulan, sınıflayan, süzen, yorumlayan ve bütünleştiren kişiler (bilgi profesyonelleri, bilgi teknolojileriyle ilgili personel)</a:t>
            </a:r>
            <a:endParaRPr b="0" lang="en-US" sz="4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Elektronik Bilgi Yönetimi Süreçleri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81532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lektronik bilgi gereksinimlerinin saptanması, bilginin toplanması,  dağıtımı, kullanımı, paylaşımı, vd. ile ilgili süreçler</a:t>
            </a:r>
            <a:endParaRPr b="0" lang="en-US" sz="4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5T08:37:45Z</dcterms:created>
  <dc:creator>asd</dc:creator>
  <dc:description/>
  <dc:language>en-US</dc:language>
  <cp:lastModifiedBy>a</cp:lastModifiedBy>
  <cp:lastPrinted>2000-09-01T11:57:10Z</cp:lastPrinted>
  <dcterms:modified xsi:type="dcterms:W3CDTF">2000-09-01T12:08:27Z</dcterms:modified>
  <cp:revision>147</cp:revision>
  <dc:subject/>
  <dc:title>Elektronik Yayıncılık ve Bilimsel İletişim: Teknoloji, Ekonomi ve Arşivleme ile İlgili Sorunlar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yunus.hacettepe.edu.tr/~tonta/tonta.html</vt:lpwstr>
  </property>
  <property fmtid="{D5CDD505-2E9C-101B-9397-08002B2CF9AE}" pid="9" name="LinkColor">
    <vt:r8>16711782</vt:r8>
  </property>
  <property fmtid="{D5CDD505-2E9C-101B-9397-08002B2CF9AE}" pid="10" name="MailAddress">
    <vt:lpwstr>tonta@hacettepe.edu.tr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mydocum\SUNUSLAR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