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tlas.ulakbim.gov.tr:8590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fotrac.london.galegroup.com/itweb/hu_tr/" TargetMode="External"/><Relationship Id="rId3" Type="http://schemas.openxmlformats.org/officeDocument/2006/relationships/hyperlink" Target="http://www.infotrac.london.galegroup.com/itweb/hu_tr/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sinet.com/" TargetMode="External"/><Relationship Id="rId3" Type="http://schemas.openxmlformats.org/officeDocument/2006/relationships/hyperlink" Target="http://www.isinet.com/" TargetMode="External"/><Relationship Id="rId4" Type="http://schemas.openxmlformats.org/officeDocument/2006/relationships/hyperlink" Target="http://www.isinet.com/" TargetMode="External"/><Relationship Id="rId5" Type="http://schemas.openxmlformats.org/officeDocument/2006/relationships/hyperlink" Target="http://atlas.ulakbim.gov.tr/" TargetMode="External"/><Relationship Id="rId6" Type="http://schemas.openxmlformats.org/officeDocument/2006/relationships/hyperlink" Target="http://atlas.ulakbim.gov.tr/" TargetMode="External"/><Relationship Id="rId7" Type="http://schemas.openxmlformats.org/officeDocument/2006/relationships/hyperlink" Target="http://atlas.ulakbim.gov.tr/" TargetMode="External"/><Relationship Id="rId8" Type="http://schemas.openxmlformats.org/officeDocument/2006/relationships/hyperlink" Target="http://atlas.ulakbim.gov.tr/" TargetMode="External"/><Relationship Id="rId9" Type="http://schemas.openxmlformats.org/officeDocument/2006/relationships/hyperlink" Target="http://atlas.ulakbim.gov.tr/" TargetMode="Externa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cienceserver.orionsci.com/" TargetMode="External"/><Relationship Id="rId3" Type="http://schemas.openxmlformats.org/officeDocument/2006/relationships/hyperlink" Target="http://www.library.hacettepe.edu.tr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brary.hacettepe.edu.tr/" TargetMode="External"/><Relationship Id="rId3" Type="http://schemas.openxmlformats.org/officeDocument/2006/relationships/hyperlink" Target="http://www.idealibrary.com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merald-library.co.uk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cbi.nlm.nih.gov/PubMed" TargetMode="External"/><Relationship Id="rId3" Type="http://schemas.openxmlformats.org/officeDocument/2006/relationships/hyperlink" Target="http://www.ncbi.nlm.nih.gov/PubMed" TargetMode="External"/><Relationship Id="rId4" Type="http://schemas.openxmlformats.org/officeDocument/2006/relationships/hyperlink" Target="http://www.ncbi.nlm.nih.gov/PubMed" TargetMode="External"/><Relationship Id="rId5" Type="http://schemas.openxmlformats.org/officeDocument/2006/relationships/hyperlink" Target="http://www.ncbi.nlm.nih.gov/PubMed" TargetMode="External"/><Relationship Id="rId6" Type="http://schemas.openxmlformats.org/officeDocument/2006/relationships/hyperlink" Target="http://www.ncbi.nlm.nih.gov/PubMed" TargetMode="External"/><Relationship Id="rId7" Type="http://schemas.openxmlformats.org/officeDocument/2006/relationships/hyperlink" Target="http://www.ncbi.nlm.nih.gov/PubMed" TargetMode="External"/><Relationship Id="rId8" Type="http://schemas.openxmlformats.org/officeDocument/2006/relationships/hyperlink" Target="http://www.ncbi.nlm.nih.gov/PubMed" TargetMode="External"/><Relationship Id="rId9" Type="http://schemas.openxmlformats.org/officeDocument/2006/relationships/hyperlink" Target="http://www.ncbi.nlm.nih.gov/PubMed" TargetMode="External"/><Relationship Id="rId10" Type="http://schemas.openxmlformats.org/officeDocument/2006/relationships/hyperlink" Target="http://www.ncbi.nlm.nih.gov/PubMed" TargetMode="External"/><Relationship Id="rId11" Type="http://schemas.openxmlformats.org/officeDocument/2006/relationships/hyperlink" Target="http://www.ncbi.nlm.nih.gov/PubMed" TargetMode="External"/><Relationship Id="rId12" Type="http://schemas.openxmlformats.org/officeDocument/2006/relationships/hyperlink" Target="http://igm.nlm.nih.gov/" TargetMode="External"/><Relationship Id="rId13" Type="http://schemas.openxmlformats.org/officeDocument/2006/relationships/hyperlink" Target="http://igm.nlm.nih.gov/" TargetMode="External"/><Relationship Id="rId14" Type="http://schemas.openxmlformats.org/officeDocument/2006/relationships/hyperlink" Target="http://igm.nlm.nih.gov/" TargetMode="External"/><Relationship Id="rId1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op.org/" TargetMode="Externa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brary.hacettepe.edu.tr/" TargetMode="External"/><Relationship Id="rId3" Type="http://schemas.openxmlformats.org/officeDocument/2006/relationships/hyperlink" Target="http://www.ams.org/mathscinet/searchauthors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library.hacettepe.edu.tr/" TargetMode="External"/><Relationship Id="rId3" Type="http://schemas.openxmlformats.org/officeDocument/2006/relationships/hyperlink" Target="http://www.bellhowell.infolearning.com/pqdauto/" TargetMode="External"/><Relationship Id="rId4" Type="http://schemas.openxmlformats.org/officeDocument/2006/relationships/hyperlink" Target="http://www.bellhowell.infolearning.com/pqdauto/" TargetMode="External"/><Relationship Id="rId5" Type="http://schemas.openxmlformats.org/officeDocument/2006/relationships/hyperlink" Target="http://www.bellhowell.infolearning.com/pqdauto/" TargetMode="External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wetsnetnavigator.nl/prod/" TargetMode="External"/><Relationship Id="rId3" Type="http://schemas.openxmlformats.org/officeDocument/2006/relationships/hyperlink" Target="http://www.swetsnetnavigator.nl/prod/" TargetMode="External"/><Relationship Id="rId4" Type="http://schemas.openxmlformats.org/officeDocument/2006/relationships/hyperlink" Target="http://www.swetsnetnavigator.nl/prod/" TargetMode="External"/><Relationship Id="rId5" Type="http://schemas.openxmlformats.org/officeDocument/2006/relationships/hyperlink" Target="http://www.swetsnetnavigator.nl/prod/" TargetMode="External"/><Relationship Id="rId6" Type="http://schemas.openxmlformats.org/officeDocument/2006/relationships/hyperlink" Target="http://www.swetsnetnavigator.nl/prod/" TargetMode="External"/><Relationship Id="rId7" Type="http://schemas.openxmlformats.org/officeDocument/2006/relationships/hyperlink" Target="http://navigator.blackwell.co.uk/" TargetMode="External"/><Relationship Id="rId8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sa1.co.uk/" TargetMode="External"/><Relationship Id="rId3" Type="http://schemas.openxmlformats.org/officeDocument/2006/relationships/hyperlink" Target="http://www.csa1.co.uk/" TargetMode="External"/><Relationship Id="rId4" Type="http://schemas.openxmlformats.org/officeDocument/2006/relationships/hyperlink" Target="http://www.csa1.co.uk/" TargetMode="External"/><Relationship Id="rId5" Type="http://schemas.openxmlformats.org/officeDocument/2006/relationships/hyperlink" Target="http://www.csa1.co.uk/" TargetMode="External"/><Relationship Id="rId6" Type="http://schemas.openxmlformats.org/officeDocument/2006/relationships/hyperlink" Target="http://www.csa1.co.uk/" TargetMode="External"/><Relationship Id="rId7" Type="http://schemas.openxmlformats.org/officeDocument/2006/relationships/hyperlink" Target="http://www.csa1.co.uk/" TargetMode="External"/><Relationship Id="rId8" Type="http://schemas.openxmlformats.org/officeDocument/2006/relationships/hyperlink" Target="http://www.csa2.com/" TargetMode="External"/><Relationship Id="rId9" Type="http://schemas.openxmlformats.org/officeDocument/2006/relationships/hyperlink" Target="http://www.csa2.com/" TargetMode="External"/><Relationship Id="rId10" Type="http://schemas.openxmlformats.org/officeDocument/2006/relationships/hyperlink" Target="http://www.csa2.com/" TargetMode="External"/><Relationship Id="rId1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ti.gov/pubscience" TargetMode="Externa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nk.springer-ny.com/" TargetMode="Externa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clc.org/" TargetMode="External"/><Relationship Id="rId3" Type="http://schemas.openxmlformats.org/officeDocument/2006/relationships/hyperlink" Target="http://www.oclc.org/firstsearch/" TargetMode="External"/><Relationship Id="rId4" Type="http://schemas.openxmlformats.org/officeDocument/2006/relationships/hyperlink" Target="http://www.oclc.org/oclc/corc/index.htm" TargetMode="External"/><Relationship Id="rId5" Type="http://schemas.openxmlformats.org/officeDocument/2006/relationships/hyperlink" Target="http://www.oclc.org/oclc/corc/index.htm" TargetMode="External"/><Relationship Id="rId6" Type="http://schemas.openxmlformats.org/officeDocument/2006/relationships/hyperlink" Target="http://corc.oclc.org/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jstor.org/" TargetMode="External"/><Relationship Id="rId3" Type="http://schemas.openxmlformats.org/officeDocument/2006/relationships/hyperlink" Target="http://www.jstor.org/" TargetMode="External"/><Relationship Id="rId4" Type="http://schemas.openxmlformats.org/officeDocument/2006/relationships/hyperlink" Target="http://www.jstor.org/" TargetMode="External"/><Relationship Id="rId5" Type="http://schemas.openxmlformats.org/officeDocument/2006/relationships/hyperlink" Target="http://www.jstor.org/" TargetMode="External"/><Relationship Id="rId6" Type="http://schemas.openxmlformats.org/officeDocument/2006/relationships/hyperlink" Target="http://www.jstor.org/" TargetMode="External"/><Relationship Id="rId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clc.org/firstsearch/" TargetMode="External"/><Relationship Id="rId3" Type="http://schemas.openxmlformats.org/officeDocument/2006/relationships/hyperlink" Target="http://libraries.mit.edu/lists/ejrnls-short.html" TargetMode="External"/><Relationship Id="rId4" Type="http://schemas.openxmlformats.org/officeDocument/2006/relationships/hyperlink" Target="http://libraries.mit.edu/lists/ejrnls-short.html" TargetMode="External"/><Relationship Id="rId5" Type="http://schemas.openxmlformats.org/officeDocument/2006/relationships/hyperlink" Target="http://libraries.mit.edu/lists/ejrnls-short.html" TargetMode="External"/><Relationship Id="rId6" Type="http://schemas.openxmlformats.org/officeDocument/2006/relationships/hyperlink" Target="http://libraries.mit.edu/lists/ejrnls-short.html" TargetMode="External"/><Relationship Id="rId7" Type="http://schemas.openxmlformats.org/officeDocument/2006/relationships/hyperlink" Target="http://libraries.mit.edu/lists/ejrnls-short.html" TargetMode="External"/><Relationship Id="rId8" Type="http://schemas.openxmlformats.org/officeDocument/2006/relationships/hyperlink" Target="http://libraries.mit.edu/lists/ejrnls-short.html" TargetMode="External"/><Relationship Id="rId9" Type="http://schemas.openxmlformats.org/officeDocument/2006/relationships/hyperlink" Target="http://libraries.mit.edu/lists/ejrnls-short.html" TargetMode="External"/><Relationship Id="rId10" Type="http://schemas.openxmlformats.org/officeDocument/2006/relationships/hyperlink" Target="http://ejournals.cic.net/" TargetMode="External"/><Relationship Id="rId11" Type="http://schemas.openxmlformats.org/officeDocument/2006/relationships/hyperlink" Target="http://ejournals.cic.net/" TargetMode="External"/><Relationship Id="rId12" Type="http://schemas.openxmlformats.org/officeDocument/2006/relationships/hyperlink" Target="http://ejournals.cic.net/" TargetMode="External"/><Relationship Id="rId13" Type="http://schemas.openxmlformats.org/officeDocument/2006/relationships/hyperlink" Target="http://ejournals.cic.net/" TargetMode="External"/><Relationship Id="rId14" Type="http://schemas.openxmlformats.org/officeDocument/2006/relationships/hyperlink" Target="http://ejournals.cic.net/" TargetMode="External"/><Relationship Id="rId15" Type="http://schemas.openxmlformats.org/officeDocument/2006/relationships/hyperlink" Target="http://ejournals.cic.net/" TargetMode="External"/><Relationship Id="rId16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alog.com/" TargetMode="External"/><Relationship Id="rId3" Type="http://schemas.openxmlformats.org/officeDocument/2006/relationships/hyperlink" Target="http://www.dialog.com/" TargetMode="External"/><Relationship Id="rId4" Type="http://schemas.openxmlformats.org/officeDocument/2006/relationships/hyperlink" Target="http://www.dialog.com/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Kaynakları I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RIC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ducational Resources Information Clearinghouse, 1966-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ilverPlatter WebSPIRS sürümü ULAKBİM aracılığıyla kullanılabili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atlas.ulakbim.gov.tr:8590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ullanıcı adı: </a:t>
            </a:r>
            <a:r>
              <a:rPr b="0" lang="tr-TR" sz="2800" spc="-1" strike="noStrike">
                <a:solidFill>
                  <a:srgbClr val="ffccff"/>
                </a:solidFill>
                <a:latin typeface="Arial"/>
              </a:rPr>
              <a:t>hacettep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Şifre: </a:t>
            </a:r>
            <a:r>
              <a:rPr b="0" lang="tr-TR" sz="2800" spc="-1" strike="noStrike">
                <a:solidFill>
                  <a:srgbClr val="ffccff"/>
                </a:solidFill>
                <a:latin typeface="Arial"/>
              </a:rPr>
              <a:t>hacettepe99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esources in Educatio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urrent Index to Journals in Educatio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GaleNe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galenet.galegroup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eme hesabı: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name:  </a:t>
            </a: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gohacun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turke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ded Academic ASAP Int'l Ed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0 -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infotrac.london.galegroup.com/itweb/hu_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BusinessFile Int'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980 -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www.infotrac.london.galegroup.com/itweb/hu_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ilverPlatt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ttp://spweb.silverplatter.co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eme hesabı: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name: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c149005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ahaivwa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ISI Web of Scienc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SI Web of Scienc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isinet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http://atlas.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ulakbim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7"/>
              </a:rPr>
              <a:t>.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8"/>
              </a:rPr>
              <a:t>gov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9"/>
              </a:rPr>
              <a:t>.t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cience Citation Index (5700 dergi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ocial Science Citation Index (1700 dergi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rts &amp; Humanities Index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Journal Citation Reports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534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ScienceDirec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sevi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scienceserver.orionsci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www.library.hacettepe.edu.t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1100 derginin tam metn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üncel duyuru hizmet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Bibliyografik/Tam Metin Veri Tabanları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erkese açık (bedava olanlar) bibliyografik veri tabanları (Medline Pubmed, PubScience, Türk Tıp Dizin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aralı veri tabanları (Dialog, ISI WoS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ayıncılar tarafından hizmete açılan tam metin elektronik dergi dermeleri (IOP, AMS, AP, Elsevier dergiler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Üçüncü parti şirketler tarafından pazarlanan bibliyografik veri tabanları / tam metin elektronik dergi dermeleri (Ebsco, Swets &amp; Blackwell, Kluwer, MCB Press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ooperatif veri tabanları (CORC, JSTOR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IDEAL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AL: International Digital Electronic Access Librar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library.hacettepe.edu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www.idealibrary.com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cademic Press, Saunders, Livingstone gibi yayınevlerinin 200 civarında dergisinin tam metinleri, ansiklopediler ve danışma kaynak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8 yıl geriye gid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5.000 civarında makale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8458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merald Library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CB Press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emerald-library.co.u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CB dergilerinde yayımlanan makalelerin tam metinlerine er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eneme hesabı (</a:t>
            </a:r>
            <a:r>
              <a:rPr b="1" i="1" lang="tr-TR" sz="3200" spc="-1" strike="noStrike">
                <a:solidFill>
                  <a:srgbClr val="ffffff"/>
                </a:solidFill>
                <a:latin typeface="Arial"/>
              </a:rPr>
              <a:t>5 Eylül 2000’e kadar geçerli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sername: </a:t>
            </a:r>
            <a:r>
              <a:rPr b="0" lang="tr-TR" sz="2800" spc="-1" strike="noStrike">
                <a:solidFill>
                  <a:srgbClr val="ffccff"/>
                </a:solidFill>
                <a:latin typeface="Arial"/>
              </a:rPr>
              <a:t>summerti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0" lang="tr-TR" sz="2800" spc="-1" strike="noStrike">
                <a:solidFill>
                  <a:srgbClr val="ffccff"/>
                </a:solidFill>
                <a:latin typeface="Arial"/>
              </a:rPr>
              <a:t>dualacces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MEDLI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dline (PubMed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ncbi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nlm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7"/>
              </a:rPr>
              <a:t>nih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8"/>
              </a:rPr>
              <a:t>.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9"/>
              </a:rPr>
              <a:t>gov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10"/>
              </a:rPr>
              <a:t>/</a:t>
            </a:r>
            <a:r>
              <a:rPr b="0" lang="en-AU" sz="2400" spc="-1" strike="noStrike" u="sng">
                <a:solidFill>
                  <a:srgbClr val="96e4ee"/>
                </a:solidFill>
                <a:uFillTx/>
                <a:latin typeface="Arial"/>
                <a:hlinkClick r:id="rId11"/>
              </a:rPr>
              <a:t>PubMed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edline Internet Grateful Med (Pubmed ve diğer veri tabanları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12"/>
              </a:rPr>
              <a:t>http</a:t>
            </a: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13"/>
              </a:rPr>
              <a:t>://igm.nlm.nih.</a:t>
            </a: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14"/>
              </a:rPr>
              <a:t>gov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merikan Ulusal Tıp Kütüphan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4300 biyotıp dergisinde yayımlanan makaleler taran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1 milyondan fazla bibliyografik küny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8381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Institute of Physics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iop.org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lektronik IOP dergi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arama ve özet bedava, tam metinlerin çoğu ücretl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American Mathematical Society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athSciNet: Mathematical Reviews on the Web, 1940-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library.hacettepe.edu.tr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www.ams.org/mathscinet/searchauthor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ProQues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roQuest Health and Medical Complete Web Databas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(Bell &amp; Howell Information and Learning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library.hacettepe.edu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</a:t>
            </a: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://www.bellhowell.infolearning.com/pqdauto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roQuest Social Science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http://www.bellhowell.infolearning.com/pqdauto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bsco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ademic Search Full Text Elit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usiness Source Elit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urrent Citation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alth Source Plu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mprehensive MEDLINE (tam metin + MESH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i Compendex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RIC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oover's Company Profile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ociofil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8076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8153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Swets &amp; Blackwell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wetsNet Navigat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swetsnetnavigator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.nl/prod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r name       : </a:t>
            </a:r>
            <a:r>
              <a:rPr b="0" lang="en-AU" sz="2800" spc="-1" strike="noStrike">
                <a:solidFill>
                  <a:srgbClr val="ffccff"/>
                </a:solidFill>
                <a:latin typeface="Arial"/>
              </a:rPr>
              <a:t>2356368.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ssword        : </a:t>
            </a:r>
            <a:r>
              <a:rPr b="0" lang="en-AU" sz="2800" spc="-1" strike="noStrike">
                <a:solidFill>
                  <a:srgbClr val="ffccff"/>
                </a:solidFill>
                <a:latin typeface="Arial"/>
              </a:rPr>
              <a:t>kucu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65 yayıncıdan 3300 dergi içer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lackwell’s Electronic Journal Navigat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7"/>
              </a:rPr>
              <a:t>http://navigator.blackwell.co.uk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llanici no’su ve şifre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bridge Scientific Abstract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net Database Servic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csa1.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co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7"/>
              </a:rPr>
              <a:t>uk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9"/>
              </a:rPr>
              <a:t>www</a:t>
            </a:r>
            <a:r>
              <a:rPr b="0" lang="en-AU" sz="3200" spc="-1" strike="noStrike" u="sng">
                <a:solidFill>
                  <a:srgbClr val="96e4ee"/>
                </a:solidFill>
                <a:uFillTx/>
                <a:latin typeface="Arial"/>
                <a:hlinkClick r:id="rId10"/>
              </a:rPr>
              <a:t>.csa2.com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eneme hesabı (ikisi için de geçerli):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sername:           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lyn168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assword:          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lyn168168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40 civarında dizin ve öz dergisi taranabiliyor. (MEDLINE, SA, PsycInfo, AGRICOLA, ASFA, Computer Abstracts, EconLit, NTIS, TOXLINE, vd.)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80773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PubSCIENCE</a:t>
            </a:r>
            <a:br>
              <a:rPr sz="4000"/>
            </a:br>
            <a:r>
              <a:rPr b="0" lang="tr-TR" sz="20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osti.gov/pubscience</a:t>
            </a:r>
            <a:endParaRPr b="0" lang="en-US" sz="2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merikan Enerji Bakanlığı Bilimsel ve Teknik Bilgi Ofisi (DoE OSTI) proj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34 yayıncının fen bilimleri dergilerini kapsıyor (AAAS, NAS, IOP, AMS, APS, MIT Press, OUP, Blackwell, Kluwer, Springer Verlag, Francis &amp; Taylor, Nature, NEJM, ASCE, AAPG, NRCC, Research Press, NACE, AMetSoc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üzlerce dergi v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0 yıl geriye gid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kalelerin tam metni ücret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DNe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Veri tabanı 12.000 e-dergi sitesi ile 22.000 dergiye ait içindekiler sayfası hizmeti içer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ek noktadan hem basılı hem elektronik dergi yönet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-dergi aboneliği çevrimiçi yapılab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dergi bağlantı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zaktan erişimle yerel aramayı birleştir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153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nk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pringer Verlag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link.springer-ny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400 civarında Springer dergisi taranab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00 civarında dergi çevrimiç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ğer yayınevleri de kendi dergilerini Link’te hizmete sunabiliyo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IEEE Elektronik Kütüphan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ttp://www.ieee.org/iel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EEE Electronic Library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2.000’den fazla yayından (dergi, konferans bildirisi kitabı, IEEE standardı) 500.000 makale 2 milyondan fazla PDF sayfası (çizimler, fotoğraflar)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1988’den bugüne IEE ve IEEE dergilerinde yayımlanan makalelerin tam metinlerine erişim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SPEC’in bir kısmına sınırsız er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CLC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OCLC: 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oclc.org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70 civarında ülkedeki 20 binden fazla kütüphaneye hizmet ver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C FirstSearch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www.oclc.org/firstsearch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CLC Electronic Collections Onlin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CORC: Cooperative Online Resource Catalo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http://www.oclc.org/oclc/corc/index.</a:t>
            </a: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ht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http://corc.oclc.org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CORC: Cooperative Online Resource Catalog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CORC: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http://www.oclc.org/oclc/corc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http://corc.oclc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bliyografik künyeler ve konu kaynakçaları için Web tabanlı metadata yaratma olanağ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Hızlı ve esnek kayıt yaratma olanağı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Otorite kontrol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evingen konu kaynakçası yaratma olanağı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olay bağlantı kontrol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olay kayıt ihracı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WebDewey ile konu kataloglaması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325.000 civarında kataloglanmış Internet kaynağ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llanıcılar: Cornell Ü., Connecticut Eyalet Küt. vd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JSTOR: Journal Storage Onli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ttp://www.jstor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ndrew Mellon Vakfı (kar amacı gütmüyo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200 civarında sosyal ve insani bilimler dergisinin tam metinleri (eski sayılar dahil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r sorununum çözmeyi de amaçl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Üyelik ücreti akademik kuruluşların büyüklüğüne göre (büyük, orta, küçük ve çok küçük) sınıflanmış (Carnegie Classification). Bir kerelik veri tabanı geliştirme ücreti ($40K-$10K) ve yıllık erişim ücreti ($5K-$2K) alınıyor.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JSTOR: Journal Storage Onlin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jstor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ndrew Mellon Vakfı (kar amacı gütmüyor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200 civarında sosyal ve insani bilimler dergisinin tam metinleri (eski sayılar dahil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er sorununum çözmeyi de amaçlı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Üyelik ücreti akademik kuruluşların büyüklüğüne göre (büyük, orta, küçük ve çok küçük) sınıflanmış (Carnegie Classification). Bir kerelik veri tabanı geliştirme ücreti ($40K-$10K) ve yıllık erişim ücreti ($5K-$2K) alınıyor.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07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Kütüphane/Konsorsiyum Derme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LC First Search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www.oclc.org/firstsearch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T's Electronic Journals Collection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http://libraries.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mit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6"/>
              </a:rPr>
              <a:t>edu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7"/>
              </a:rPr>
              <a:t>/lists/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8"/>
              </a:rPr>
              <a:t>ejrnls</a:t>
            </a:r>
            <a:r>
              <a:rPr b="0" lang="en-US" sz="2800" spc="-1" strike="noStrike" u="sng">
                <a:solidFill>
                  <a:srgbClr val="96e4ee"/>
                </a:solidFill>
                <a:uFillTx/>
                <a:latin typeface="Arial"/>
                <a:hlinkClick r:id="rId9"/>
              </a:rPr>
              <a:t>-short.htm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C Electronic Journals Coll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0"/>
              </a:rPr>
              <a:t>http</a:t>
            </a: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1"/>
              </a:rPr>
              <a:t>://</a:t>
            </a: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2"/>
              </a:rPr>
              <a:t>ejournals</a:t>
            </a: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3"/>
              </a:rPr>
              <a:t>.</a:t>
            </a: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4"/>
              </a:rPr>
              <a:t>cic</a:t>
            </a:r>
            <a:r>
              <a:rPr b="0" lang="en-US" sz="3200" spc="-1" strike="noStrike" u="sng">
                <a:solidFill>
                  <a:srgbClr val="96e4ee"/>
                </a:solidFill>
                <a:uFillTx/>
                <a:latin typeface="Arial"/>
                <a:hlinkClick r:id="rId15"/>
              </a:rPr>
              <a:t>.net/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Kaynakları I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Dialog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ialog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800" spc="-1" strike="noStrike" u="sng">
                <a:solidFill>
                  <a:srgbClr val="96e4ee"/>
                </a:solidFill>
                <a:uFillTx/>
                <a:latin typeface="Arial"/>
                <a:hlinkClick r:id="rId4"/>
              </a:rPr>
              <a:t>.dialog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homson Grub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500’e yakın bibliyografik/tam metin veri taban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9-01T07:19:14Z</dcterms:modified>
  <cp:revision>297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