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8248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1157400"/>
            <a:ext cx="0" cy="559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" name=""/>
          <p:cNvSpPr/>
          <p:nvPr/>
        </p:nvSpPr>
        <p:spPr>
          <a:xfrm>
            <a:off x="4896360" y="1440"/>
            <a:ext cx="424764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Elektronik Kütüphanecilik Semineri”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ffffff"/>
                </a:solidFill>
                <a:latin typeface="Arial"/>
              </a:rPr>
              <a:t>4-8 Eylül 2000, Ankara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imes New Roman Tur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" name=""/>
          <p:cNvSpPr/>
          <p:nvPr/>
        </p:nvSpPr>
        <p:spPr>
          <a:xfrm>
            <a:off x="-412200" y="6600960"/>
            <a:ext cx="1139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chnical"/>
              </a:rPr>
              <a:t>Y.T.</a:t>
            </a:r>
            <a:endParaRPr b="0" lang="en-US" sz="1200" spc="-1" strike="noStrike">
              <a:solidFill>
                <a:srgbClr val="ffffff"/>
              </a:solidFill>
              <a:latin typeface="Times New Roman Tur"/>
            </a:endParaRPr>
          </a:p>
        </p:txBody>
      </p:sp>
      <p:pic>
        <p:nvPicPr>
          <p:cNvPr id="4" name="amblem" descr=""/>
          <p:cNvPicPr/>
          <p:nvPr/>
        </p:nvPicPr>
        <p:blipFill>
          <a:blip r:embed="rId3"/>
          <a:stretch/>
        </p:blipFill>
        <p:spPr>
          <a:xfrm>
            <a:off x="0" y="0"/>
            <a:ext cx="676440" cy="1095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 Tur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Tu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Tur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spcBef>
                <a:spcPts val="601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Tur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imes New Roman Tur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lir.org/cpa/" TargetMode="External"/><Relationship Id="rId3" Type="http://schemas.openxmlformats.org/officeDocument/2006/relationships/hyperlink" Target="http://www.clir.org/cpa/" TargetMode="External"/><Relationship Id="rId4" Type="http://schemas.openxmlformats.org/officeDocument/2006/relationships/hyperlink" Target="http://www.clir.org/cpa/" TargetMode="External"/><Relationship Id="rId5" Type="http://schemas.openxmlformats.org/officeDocument/2006/relationships/hyperlink" Target="http://www.clir.org/cpa/" TargetMode="External"/><Relationship Id="rId6" Type="http://schemas.openxmlformats.org/officeDocument/2006/relationships/hyperlink" Target="http://www.clir.org/cpa/" TargetMode="External"/><Relationship Id="rId7" Type="http://schemas.openxmlformats.org/officeDocument/2006/relationships/hyperlink" Target="http://www.rlg.org/ArchTF/index.html" TargetMode="External"/><Relationship Id="rId8" Type="http://schemas.openxmlformats.org/officeDocument/2006/relationships/hyperlink" Target="http://www.rlg.org/ArchTF/index.html" TargetMode="External"/><Relationship Id="rId9" Type="http://schemas.openxmlformats.org/officeDocument/2006/relationships/hyperlink" Target="http://www.rlg.org/ArchTF/index.html" TargetMode="External"/><Relationship Id="rId10" Type="http://schemas.openxmlformats.org/officeDocument/2006/relationships/hyperlink" Target="http://www.rlg.org/ArchTF/index.html" TargetMode="External"/><Relationship Id="rId11" Type="http://schemas.openxmlformats.org/officeDocument/2006/relationships/hyperlink" Target="http://www.rlg.org/ArchTF/index.html" TargetMode="External"/><Relationship Id="rId12" Type="http://schemas.openxmlformats.org/officeDocument/2006/relationships/hyperlink" Target="file:///D:/document/library/net/tfadi-fr.pdf" TargetMode="External"/><Relationship Id="rId13" Type="http://schemas.openxmlformats.org/officeDocument/2006/relationships/hyperlink" Target="file:///D:/document/library/net/tfadi-fr.pdf" TargetMode="External"/><Relationship Id="rId14" Type="http://schemas.openxmlformats.org/officeDocument/2006/relationships/hyperlink" Target="file:///D:/document/library/net/tfadi-fr.pdf" TargetMode="External"/><Relationship Id="rId15" Type="http://schemas.openxmlformats.org/officeDocument/2006/relationships/hyperlink" Target="file:///D:/document/library/net/tfadi-fr.pdf" TargetMode="External"/><Relationship Id="rId16" Type="http://schemas.openxmlformats.org/officeDocument/2006/relationships/hyperlink" Target="file:///D:/document/library/net/tfadi-fr.pdf" TargetMode="External"/><Relationship Id="rId17" Type="http://schemas.openxmlformats.org/officeDocument/2006/relationships/hyperlink" Target="file:///D:/document/library/net/tfadi-fr.pdf" TargetMode="External"/><Relationship Id="rId18" Type="http://schemas.openxmlformats.org/officeDocument/2006/relationships/hyperlink" Target="file:///D:/document/library/net/tfadi-fr.pdf" TargetMode="External"/><Relationship Id="rId19" Type="http://schemas.openxmlformats.org/officeDocument/2006/relationships/hyperlink" Target="file:///D:/document/library/net/tfadi-fr.pdf" TargetMode="External"/><Relationship Id="rId2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Elektronik Kütüphanelerde Koruma ve Arşivleme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Yaşar Ton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nta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yunus.hacettepe.edu.tr/~tonta/tonta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00"/>
                </a:solidFill>
                <a:latin typeface="Arial"/>
              </a:rPr>
              <a:t>Arşivleme İle İlgili Görevler</a:t>
            </a:r>
            <a:endParaRPr b="0" lang="en-US" sz="48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lektronik bilimsel materyaller arşivinin kurulması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Yedekleme mekanizmaları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Yenileme mekanizmaları (pahalı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rişim mekanizmaları (bibliyografik denetim, dizinleme, arama motorları, bilgi robotları, “kişisel filtre”ler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Öykünme yazılımlar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zun dönemli örgütsel, mali, kurumsal adanmışlık (dijitalleştirme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NEDLIB: Networked European Deposit Library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Elektronik yayınlar depozit sistemleri (DSEP) inşa etmek için bir ortak mimari çerçeve ve temel araçları geliştirmeyi amaçlayan bir proje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998’de başlatıldı (Avrupa Ulusal Kütüphaneleri Konferansı Daimi Komitesi)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Uzun dönemli koruma için öykünme yazılımı geliştirme deneyi Hollanda Ulusal Kütüphanesinde yapılıyo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DSEP: Deposit Systems for Electronic Publications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Diğer Projel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SEP: Deposit Systems for Electronic Publications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ANDORA (Avustralya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8305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534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686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ffff00"/>
                </a:solidFill>
                <a:latin typeface="Arial"/>
              </a:rPr>
              <a:t>Ne Yapılmalı?</a:t>
            </a:r>
            <a:endParaRPr b="0" lang="en-US" sz="48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Şimdiki kâğıda dayalı sistemler terkedilmeden önce, elektronik yayınlara erişim ve özellikle bu tür yayınların arşivlenmesi için olgun ve standart çözümler bulunmalıdır.” 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1f22"/>
                </a:solidFill>
                <a:latin typeface="Arial"/>
              </a:rPr>
              <a:t>Uta Grothkopf, “Bits and bytes and still a lot of paper: astronomy libraries and librarians in the age of electronic publishing,” </a:t>
            </a:r>
            <a:r>
              <a:rPr b="0" i="1" lang="en-AU" sz="1600" spc="-1" strike="noStrike">
                <a:solidFill>
                  <a:srgbClr val="001f22"/>
                </a:solidFill>
                <a:latin typeface="Arial"/>
              </a:rPr>
              <a:t>Astrophysics and Space Science</a:t>
            </a:r>
            <a:r>
              <a:rPr b="0" lang="en-AU" sz="1600" spc="-1" strike="noStrike">
                <a:solidFill>
                  <a:srgbClr val="001f22"/>
                </a:solidFill>
                <a:latin typeface="Arial"/>
              </a:rPr>
              <a:t> 247: 155-174, 1997. (http://www.eso.org/libraries/bits-and-bytes/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Daha Fazla Bilgi İçin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US]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ission on Preservation and Access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100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en-US" sz="2400" spc="-1" strike="noStrike" u="sng">
                <a:solidFill>
                  <a:srgbClr val="ff0100"/>
                </a:solidFill>
                <a:uFillTx/>
                <a:latin typeface="Arial"/>
                <a:hlinkClick r:id="rId3"/>
              </a:rPr>
              <a:t>clir</a:t>
            </a:r>
            <a:r>
              <a:rPr b="0" lang="en-US" sz="2400" spc="-1" strike="noStrike" u="sng">
                <a:solidFill>
                  <a:srgbClr val="ff0100"/>
                </a:solidFill>
                <a:uFillTx/>
                <a:latin typeface="Arial"/>
                <a:hlinkClick r:id="rId4"/>
              </a:rPr>
              <a:t>.org/</a:t>
            </a:r>
            <a:r>
              <a:rPr b="0" lang="en-US" sz="2400" spc="-1" strike="noStrike" u="sng">
                <a:solidFill>
                  <a:srgbClr val="ff0100"/>
                </a:solidFill>
                <a:uFillTx/>
                <a:latin typeface="Arial"/>
                <a:hlinkClick r:id="rId5"/>
              </a:rPr>
              <a:t>cpa</a:t>
            </a:r>
            <a:r>
              <a:rPr b="0" lang="en-US" sz="2400" spc="-1" strike="noStrike" u="sng">
                <a:solidFill>
                  <a:srgbClr val="ff0100"/>
                </a:solidFill>
                <a:uFillTx/>
                <a:latin typeface="Arial"/>
                <a:hlinkClick r:id="rId6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 Force on Archiving Digital Information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erving Digital Information: Final Report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Recommendation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y 20, 1996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100"/>
                </a:solidFill>
                <a:uFillTx/>
                <a:latin typeface="Arial"/>
                <a:hlinkClick r:id="rId7"/>
              </a:rPr>
              <a:t>http://www.</a:t>
            </a:r>
            <a:r>
              <a:rPr b="0" lang="en-US" sz="2400" spc="-1" strike="noStrike" u="sng">
                <a:solidFill>
                  <a:srgbClr val="ff0100"/>
                </a:solidFill>
                <a:uFillTx/>
                <a:latin typeface="Arial"/>
                <a:hlinkClick r:id="rId8"/>
              </a:rPr>
              <a:t>rlg</a:t>
            </a:r>
            <a:r>
              <a:rPr b="0" lang="en-US" sz="2400" spc="-1" strike="noStrike" u="sng">
                <a:solidFill>
                  <a:srgbClr val="ff0100"/>
                </a:solidFill>
                <a:uFillTx/>
                <a:latin typeface="Arial"/>
                <a:hlinkClick r:id="rId9"/>
              </a:rPr>
              <a:t>.org/</a:t>
            </a:r>
            <a:r>
              <a:rPr b="0" lang="en-US" sz="2400" spc="-1" strike="noStrike" u="sng">
                <a:solidFill>
                  <a:srgbClr val="ff0100"/>
                </a:solidFill>
                <a:uFillTx/>
                <a:latin typeface="Arial"/>
                <a:hlinkClick r:id="rId10"/>
              </a:rPr>
              <a:t>ArchTF</a:t>
            </a:r>
            <a:r>
              <a:rPr b="0" lang="en-US" sz="2400" spc="-1" strike="noStrike" u="sng">
                <a:solidFill>
                  <a:srgbClr val="ff0100"/>
                </a:solidFill>
                <a:uFillTx/>
                <a:latin typeface="Arial"/>
                <a:hlinkClick r:id="rId11"/>
              </a:rPr>
              <a:t>/index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100"/>
                </a:solidFill>
                <a:uFillTx/>
                <a:latin typeface="Arial"/>
                <a:hlinkClick r:id="rId12"/>
              </a:rPr>
              <a:t>http://www.</a:t>
            </a:r>
            <a:r>
              <a:rPr b="0" lang="en-US" sz="2400" spc="-1" strike="noStrike" u="sng">
                <a:solidFill>
                  <a:srgbClr val="ff0100"/>
                </a:solidFill>
                <a:uFillTx/>
                <a:latin typeface="Arial"/>
                <a:hlinkClick r:id="rId13"/>
              </a:rPr>
              <a:t>ifla</a:t>
            </a:r>
            <a:r>
              <a:rPr b="0" lang="en-US" sz="2400" spc="-1" strike="noStrike" u="sng">
                <a:solidFill>
                  <a:srgbClr val="ff0100"/>
                </a:solidFill>
                <a:uFillTx/>
                <a:latin typeface="Arial"/>
                <a:hlinkClick r:id="rId14"/>
              </a:rPr>
              <a:t>.org//documents/libraries/net/</a:t>
            </a:r>
            <a:r>
              <a:rPr b="0" lang="en-US" sz="2400" spc="-1" strike="noStrike" u="sng">
                <a:solidFill>
                  <a:srgbClr val="ff0100"/>
                </a:solidFill>
                <a:uFillTx/>
                <a:latin typeface="Arial"/>
                <a:hlinkClick r:id="rId15"/>
              </a:rPr>
              <a:t>tfadi</a:t>
            </a:r>
            <a:r>
              <a:rPr b="0" lang="en-US" sz="2400" spc="-1" strike="noStrike" u="sng">
                <a:solidFill>
                  <a:srgbClr val="ff0100"/>
                </a:solidFill>
                <a:uFillTx/>
                <a:latin typeface="Arial"/>
                <a:hlinkClick r:id="rId16"/>
              </a:rPr>
              <a:t>-</a:t>
            </a:r>
            <a:r>
              <a:rPr b="0" lang="en-US" sz="2400" spc="-1" strike="noStrike" u="sng">
                <a:solidFill>
                  <a:srgbClr val="ff0100"/>
                </a:solidFill>
                <a:uFillTx/>
                <a:latin typeface="Arial"/>
                <a:hlinkClick r:id="rId17"/>
              </a:rPr>
              <a:t>fr</a:t>
            </a:r>
            <a:r>
              <a:rPr b="0" lang="en-US" sz="2400" spc="-1" strike="noStrike" u="sng">
                <a:solidFill>
                  <a:srgbClr val="ff0100"/>
                </a:solidFill>
                <a:uFillTx/>
                <a:latin typeface="Arial"/>
                <a:hlinkClick r:id="rId18"/>
              </a:rPr>
              <a:t>.</a:t>
            </a:r>
            <a:r>
              <a:rPr b="0" lang="en-US" sz="2400" spc="-1" strike="noStrike" u="sng">
                <a:solidFill>
                  <a:srgbClr val="ff0100"/>
                </a:solidFill>
                <a:uFillTx/>
                <a:latin typeface="Arial"/>
                <a:hlinkClick r:id="rId19"/>
              </a:rPr>
              <a:t>pd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EDAR: CURL Exemplars in Digital Archives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ttp://www.leeds.ac.uk/cedars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y, M.W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ervation of electronic information: a bibliography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homes.ukoln.ac.uk/~lismd/preservation.html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Elektronik Kütüphanelerde Koruma ve Arşivleme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Yaşar Ton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nta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yunus.hacettepe.edu.tr/~tonta/tonta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Koruma ve Arşivleme 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lektronik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bilginin kalıcılığı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İlk e-posta mesajı arşivlerde yok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-245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Brezilya’nın 1970’lerdeki uydu resimlerine erişilemiyor (eski bant) 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slına uygunluk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ve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lektronik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belgeler (kriptografi tekniklerine dayanan dijital imza, elektronik mühür, zaman damgası, güvenlik, gizlilik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ntellektüel bütünlük (içerik, sabitleme, referans, provenans ve bağlam yönlerinden)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inamik veri nesnelerinin korunması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(hipermetin, kırık bağlantılar, değiştirilmiş/başka yere taşınmış belgeler, vd.; MOMspider, Web:Lookout, DigiMarc)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lektronik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ilgileri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arşivleme formatları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100000"/>
              </a:lnSpc>
              <a:spcBef>
                <a:spcPts val="24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Kaynak:  C:\My Documents\mydocum\COURSES\kut657\epublishing-article4.htm</a:t>
            </a:r>
            <a:endParaRPr b="0" lang="en-US" sz="1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Erişim-Kopyalama- Arşivleme İlişkis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8915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lektronik bilgiye erişim sağlamak için önce kopyalamak gerekli (erişim = kopyalama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rişim donanım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yazılım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ve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ğa bağl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lektronik ortamda “arşivleme = kopyalama”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ürekli erişim arşivleme ile mümkün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alıcı - geçici arşivleme (arşivler, yansılar, bağlantılar, vd.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Elektronik Bilgilerin Korunması ve Saklanmas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Fiziksel nesneyi korumak erişim için yeterli değil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ski formatt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ki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bilgiler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e daha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onra erişilemi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yo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Donanım da korunmalı/saklanmal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Donanım/yazılımın ömrü?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Elektronik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bilginin yenilenmesi / başka bir ortama aktarılması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Yenileme/yedekleme mekanizmaları gerekl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polama ortamının geçerliliğini yitir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dikçe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, erişim ve gösterim teknolojileri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eskidikçe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yenileme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 gerekl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Nereye kadar?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Yenileme 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Yenileme/bir başka depolama ortamına aktarma tek başına çözüm değil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Elektronik belgeyi kullanmak için yazılımın o belgenin mantıksal formatını anlaması gerekl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ncak belge her yeni ortama aktarıldıkça mantıksal formatının da değiştirilmesi gerekl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Emek-yoğun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Özgün belgenin bozulma/hiç okunamama riski va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antıksal format eskidikçe bütün belgelerin yeni mantıksal formata aktarılması gerekl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Yazılımın Rolü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ir belgenin dijital orijinali o dokümanın tüm anlamlı ve ilgili özelliklerini temsil eden kopyası demek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u da belgenin orijinal mantıksal formatını korumakla mümkün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ni bir belgenin mantıksal formatından “anlayan” özgün uygulama yazılımının sonsuza dek çalıştırılabilmesi gerekl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Öykünme (Emulation)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Yazılım kullanarak gelecekteki bilgisayarların modası geçmiş bilgisayarların davranışlarını aynen yaratmas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Öykünme, dijital orijinal belgeleri korumak için kullanılabilir; testler devam ediyo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Orijinal, eski yazılımın eski bilgisayarlar üzerinde çalışmasını sağlayacak okuyuculara ihtiyaç va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Öykünme gerektiğinde tekrarlanacak, ama her seferinde elektronik belgenin orijinali yeniden yaratılabilecek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Yönetimsel Sorunla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Elektronik bilgilerin derlenmesi (depozit kütüphaneleri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angi elektronik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bilgiler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arşivlenmeli?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slı elektronik ortamda olanla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onradan elektronik ortama aktarılanla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rşivlemeden kim sorumlu olmalı?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ütüphanelerin uzun dönemde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elektronik bilgi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rşivler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 erişim haklar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Yasal ve örgütsel sorunlar (elektronik telif hakkı yönetim sistemleri, vd.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Arşivlemeden Kim Sorumlu?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ilgiyi üretenler (yani araştırmacılar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Yayıncılar?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ütüphaneler?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bone firmaları/Kitap satıcıları/Diziznleme ve özetçeleme servisleri/Eski sayı satan firmalar/Toplayıcılar/özel şirketler?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ayısal kütüphaneler tarafından ortaklaşa arşivleme? (“sayısal arşivler ulusal sistemi”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iğer (dernekler, kooperatifler...?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5T08:37:45Z</dcterms:created>
  <dc:creator>asd</dc:creator>
  <dc:description/>
  <dc:language>en-US</dc:language>
  <cp:lastModifiedBy>a</cp:lastModifiedBy>
  <cp:lastPrinted>2000-03-28T13:47:03Z</cp:lastPrinted>
  <dcterms:modified xsi:type="dcterms:W3CDTF">2000-08-31T23:04:59Z</dcterms:modified>
  <cp:revision>175</cp:revision>
  <dc:subject/>
  <dc:title>Elektronik Yayıncılık ve Bilimsel İletişim: Teknoloji, Ekonomi ve Arşivleme ile İlgili Sorunlar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yunus.hacettepe.edu.tr/~tonta/tonta.html</vt:lpwstr>
  </property>
  <property fmtid="{D5CDD505-2E9C-101B-9397-08002B2CF9AE}" pid="9" name="LinkColor">
    <vt:r8>16711782</vt:r8>
  </property>
  <property fmtid="{D5CDD505-2E9C-101B-9397-08002B2CF9AE}" pid="10" name="MailAddress">
    <vt:lpwstr>tonta@hacettepe.edu.tr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mydocum\SUNUSLAR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