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467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762120"/>
            <a:ext cx="82486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" name=""/>
          <p:cNvSpPr/>
          <p:nvPr/>
        </p:nvSpPr>
        <p:spPr>
          <a:xfrm>
            <a:off x="304920" y="1157400"/>
            <a:ext cx="0" cy="5599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2" name=""/>
          <p:cNvSpPr/>
          <p:nvPr/>
        </p:nvSpPr>
        <p:spPr>
          <a:xfrm>
            <a:off x="4896360" y="1440"/>
            <a:ext cx="4247640" cy="8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Elektronik Kütüphanecilik Semineri”</a:t>
            </a:r>
            <a:endParaRPr b="0" lang="en-US" sz="1800" spc="-1" strike="noStrike">
              <a:solidFill>
                <a:srgbClr val="ffffff"/>
              </a:solidFill>
              <a:latin typeface="Times New Roman Tur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>
                <a:solidFill>
                  <a:srgbClr val="ffffff"/>
                </a:solidFill>
                <a:latin typeface="Arial"/>
              </a:rPr>
              <a:t>4-8 Eylül 2000, Ankara</a:t>
            </a:r>
            <a:endParaRPr b="0" lang="en-US" sz="1600" spc="-1" strike="noStrike">
              <a:solidFill>
                <a:srgbClr val="ffffff"/>
              </a:solidFill>
              <a:latin typeface="Times New Roman Tur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Times New Roman Tur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Times New Roman Tur"/>
            </a:endParaRPr>
          </a:p>
        </p:txBody>
      </p:sp>
      <p:pic>
        <p:nvPicPr>
          <p:cNvPr id="3" name="amblem" descr=""/>
          <p:cNvPicPr/>
          <p:nvPr/>
        </p:nvPicPr>
        <p:blipFill>
          <a:blip r:embed="rId3"/>
          <a:stretch/>
        </p:blipFill>
        <p:spPr>
          <a:xfrm>
            <a:off x="0" y="0"/>
            <a:ext cx="676440" cy="1095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 Tur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 Tur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 T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 Tur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2" marL="1143000" indent="-228600">
              <a:spcBef>
                <a:spcPts val="601"/>
              </a:spcBef>
              <a:buClr>
                <a:srgbClr val="ff7f00"/>
              </a:buClr>
              <a:buSzPct val="63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Tur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 Tur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Tur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lvl="4" marL="2057400" indent="-228600">
              <a:spcBef>
                <a:spcPts val="499"/>
              </a:spcBef>
              <a:buClr>
                <a:srgbClr val="ffff00"/>
              </a:buClr>
              <a:buFont typeface="Times New Roman Tur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Tur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Tur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Tur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vancouver-webpages.com/VWbot/mk-dublin.html" TargetMode="External"/><Relationship Id="rId3" Type="http://schemas.openxmlformats.org/officeDocument/2006/relationships/hyperlink" Target="http://vancouver-webpages.com/VWbot/mk-dublin.html" TargetMode="External"/><Relationship Id="rId4" Type="http://schemas.openxmlformats.org/officeDocument/2006/relationships/hyperlink" Target="http://vancouver-webpages.com/VWbot/mk-dublin.html" TargetMode="External"/><Relationship Id="rId5" Type="http://schemas.openxmlformats.org/officeDocument/2006/relationships/hyperlink" Target="http://vancouver-webpages.com/VWbot/mk-dublin.html" TargetMode="External"/><Relationship Id="rId6" Type="http://schemas.openxmlformats.org/officeDocument/2006/relationships/hyperlink" Target="http://vancouver-webpages.com/VWbot/mk-dublin.html" TargetMode="External"/><Relationship Id="rId7" Type="http://schemas.openxmlformats.org/officeDocument/2006/relationships/hyperlink" Target="http://vancouver-webpages.com/VWbot/mk-dublin.html" TargetMode="External"/><Relationship Id="rId8" Type="http://schemas.openxmlformats.org/officeDocument/2006/relationships/hyperlink" Target="http://vancouver-webpages.com/VWbot/mk-dublin.html" TargetMode="External"/><Relationship Id="rId9" Type="http://schemas.openxmlformats.org/officeDocument/2006/relationships/hyperlink" Target="http://vancouver-webpages.com/VWbot/mk-dublin.html" TargetMode="External"/><Relationship Id="rId10" Type="http://schemas.openxmlformats.org/officeDocument/2006/relationships/hyperlink" Target="http://vancouver-webpages.com/VWbot/mk-dublin.html" TargetMode="External"/><Relationship Id="rId11" Type="http://schemas.openxmlformats.org/officeDocument/2006/relationships/hyperlink" Target="http://vancouver-webpages.com/VWbot/mk-dublin.html" TargetMode="External"/><Relationship Id="rId12" Type="http://schemas.openxmlformats.org/officeDocument/2006/relationships/hyperlink" Target="http://vancouver-webpages.com/VWbot/mk-dublin.html" TargetMode="External"/><Relationship Id="rId13" Type="http://schemas.openxmlformats.org/officeDocument/2006/relationships/hyperlink" Target="http://www.ub.lu.se/metadata/DC_creator.html" TargetMode="External"/><Relationship Id="rId14" Type="http://schemas.openxmlformats.org/officeDocument/2006/relationships/hyperlink" Target="http://www.ub.lu.se/metadata/DC_creator.html" TargetMode="External"/><Relationship Id="rId15" Type="http://schemas.openxmlformats.org/officeDocument/2006/relationships/hyperlink" Target="http://www.ub.lu.se/metadata/DC_creator.html" TargetMode="External"/><Relationship Id="rId16" Type="http://schemas.openxmlformats.org/officeDocument/2006/relationships/hyperlink" Target="http://www.ub.lu.se/metadata/DC_creator.html" TargetMode="External"/><Relationship Id="rId17" Type="http://schemas.openxmlformats.org/officeDocument/2006/relationships/hyperlink" Target="http://www.ub.lu.se/metadata/DC_creator.html" TargetMode="External"/><Relationship Id="rId18" Type="http://schemas.openxmlformats.org/officeDocument/2006/relationships/hyperlink" Target="http://www.mathematik.uni-snabrueck.de/projects/META/MetaMake2.2.html" TargetMode="External"/><Relationship Id="rId19" Type="http://schemas.openxmlformats.org/officeDocument/2006/relationships/hyperlink" Target="http://geminfo.org/" TargetMode="External"/><Relationship Id="rId20" Type="http://schemas.openxmlformats.org/officeDocument/2006/relationships/hyperlink" Target="http://www.blueangeltech.com/default.htm" TargetMode="External"/><Relationship Id="rId21" Type="http://schemas.openxmlformats.org/officeDocument/2006/relationships/hyperlink" Target="http://metadata.net/dstc" TargetMode="External"/><Relationship Id="rId22" Type="http://schemas.openxmlformats.org/officeDocument/2006/relationships/hyperlink" Target="http://www.dstc.edu.au/RDU/MetaWeb/generic_tool.html" TargetMode="External"/><Relationship Id="rId2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ukoln.ac.uk/metadata/dcdot/" TargetMode="External"/><Relationship Id="rId3" Type="http://schemas.openxmlformats.org/officeDocument/2006/relationships/hyperlink" Target="http://www.ukoln.ac.uk/metadata/dcdot/" TargetMode="External"/><Relationship Id="rId4" Type="http://schemas.openxmlformats.org/officeDocument/2006/relationships/hyperlink" Target="http://www.ukoln.ac.uk/metadata/dcdot/" TargetMode="External"/><Relationship Id="rId5" Type="http://schemas.openxmlformats.org/officeDocument/2006/relationships/hyperlink" Target="http://www.ukoln.ac.uk/metadata/dcdot/" TargetMode="External"/><Relationship Id="rId6" Type="http://schemas.openxmlformats.org/officeDocument/2006/relationships/hyperlink" Target="http://www.ukoln.ac.uk/metadata/dcdot/" TargetMode="External"/><Relationship Id="rId7" Type="http://schemas.openxmlformats.org/officeDocument/2006/relationships/hyperlink" Target="http://www.ukoln.ac.uk/metadata/dcdot/" TargetMode="External"/><Relationship Id="rId8" Type="http://schemas.openxmlformats.org/officeDocument/2006/relationships/hyperlink" Target="http://www.ukoln.ac.uk/metadata/dcdot/" TargetMode="External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2057040"/>
            <a:ext cx="876276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ff00"/>
                </a:solidFill>
                <a:latin typeface="Times New Roman Tur"/>
              </a:rPr>
              <a:t>Elektronik Yayınların Kataloglanması ve Dizinlenmesi</a:t>
            </a:r>
            <a:r>
              <a:rPr b="1" lang="en-AU" sz="6000" spc="-1" strike="noStrike">
                <a:solidFill>
                  <a:srgbClr val="ffff00"/>
                </a:solidFill>
                <a:latin typeface="Times New Roman Tur"/>
              </a:rPr>
              <a:t> </a:t>
            </a:r>
            <a:endParaRPr b="0" lang="en-US" sz="60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7760" y="5029200"/>
            <a:ext cx="609444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ffffff"/>
                </a:solidFill>
                <a:latin typeface="Arial"/>
              </a:rPr>
              <a:t>Mehmet Emin Küçük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H.Ü. Kütüphanecilik Bölümü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mkucuk</a:t>
            </a: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@hacettepe.edu.tr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1" lang="en-AU" sz="4400" spc="-1" strike="noStrike">
                <a:solidFill>
                  <a:srgbClr val="ffff00"/>
                </a:solidFill>
                <a:latin typeface="Arial"/>
              </a:rPr>
              <a:t>nternet’te bilgi erişim sorunlar</a:t>
            </a: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ı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12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 Tur"/>
              </a:rPr>
              <a:t>ANZWERS                   IETF (Internet Engineering Task Force)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imes New Roman Tur"/>
              </a:rPr>
              <a:t>12 Nisan 2000: 100.888 doküman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 Tur"/>
              </a:rPr>
              <a:t>5 Ağustos 1999</a:t>
            </a:r>
            <a:r>
              <a:rPr b="0" lang="tr-TR" sz="3200" spc="-1" strike="noStrike">
                <a:solidFill>
                  <a:srgbClr val="ffffff"/>
                </a:solidFill>
                <a:latin typeface="Times New Roman Tur"/>
              </a:rPr>
              <a:t>: </a:t>
            </a:r>
            <a:r>
              <a:rPr b="0" lang="en-AU" sz="3200" spc="-1" strike="noStrike">
                <a:solidFill>
                  <a:srgbClr val="ffffff"/>
                </a:solidFill>
                <a:latin typeface="Times New Roman Tur"/>
              </a:rPr>
              <a:t>91.017 doküman 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imes New Roman Tur"/>
              </a:rPr>
              <a:t>1998: </a:t>
            </a:r>
            <a:r>
              <a:rPr b="0" lang="en-AU" sz="3200" spc="-1" strike="noStrike">
                <a:solidFill>
                  <a:srgbClr val="ffffff"/>
                </a:solidFill>
                <a:latin typeface="Times New Roman Tur"/>
              </a:rPr>
              <a:t>896.354 doküman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3276720"/>
            <a:ext cx="114300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7720" y="914400"/>
            <a:ext cx="76201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1" lang="en-AU" sz="4400" spc="-1" strike="noStrike">
                <a:solidFill>
                  <a:srgbClr val="ffff00"/>
                </a:solidFill>
                <a:latin typeface="Arial"/>
              </a:rPr>
              <a:t>nternet’te farkedilebilmek</a:t>
            </a:r>
            <a:r>
              <a:rPr b="0" lang="en-AU" sz="4400" spc="-1" strike="noStrike">
                <a:solidFill>
                  <a:srgbClr val="ffff00"/>
                </a:solidFill>
                <a:latin typeface="Times New Roman Tur"/>
              </a:rPr>
              <a:t> ?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9320" y="2590920"/>
            <a:ext cx="7772400" cy="396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 Tur"/>
              </a:rPr>
              <a:t>Add Uniform Resource Locator (URL)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 Tur"/>
              </a:rPr>
              <a:t>“</a:t>
            </a:r>
            <a:r>
              <a:rPr b="0" lang="en-AU" sz="3200" spc="-1" strike="noStrike">
                <a:solidFill>
                  <a:srgbClr val="ffffff"/>
                </a:solidFill>
                <a:latin typeface="Times New Roman Tur"/>
              </a:rPr>
              <a:t>Ödeme” yapmak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 Tur"/>
              </a:rPr>
              <a:t>Tasarımın dikkat çekici olmasını sağlamak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 Tur"/>
              </a:rPr>
              <a:t>Bazı özelliklerini hızlandırmak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 Tur"/>
              </a:rPr>
              <a:t>Kataloglamak: Metadata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metadata ?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 Tur"/>
              </a:rPr>
              <a:t>Veri hakkında veri (data about data)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 Tur"/>
              </a:rPr>
              <a:t>“</a:t>
            </a:r>
            <a:r>
              <a:rPr b="0" lang="en-AU" sz="3200" spc="-1" strike="noStrike">
                <a:solidFill>
                  <a:srgbClr val="ffffff"/>
                </a:solidFill>
                <a:latin typeface="Times New Roman Tur"/>
              </a:rPr>
              <a:t>Web ya da diğer kaynaklar hakkında  makinaca anlaşılabilir bilgi” (W3 Consortium)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 Tur"/>
              </a:rPr>
              <a:t>Kaynak keşfi ve seçimi işlemini destekleyen bibliyografik veri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 Tur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metadata ?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 Tur"/>
              </a:rPr>
              <a:t>Kart katalog                          Kütüphane dermesi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 Tur"/>
              </a:rPr>
              <a:t>Kütüphaneciler için; elektronik kaynakların tanımlayıcı kataloğu (descriptive catalogue)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 Tur"/>
              </a:rPr>
              <a:t>AMAÇ: Bilgi erişimi geliştirmek ve olanaklı kılmak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72" name=""/>
          <p:cNvSpPr/>
          <p:nvPr/>
        </p:nvSpPr>
        <p:spPr>
          <a:xfrm>
            <a:off x="3886200" y="2362320"/>
            <a:ext cx="1219320" cy="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ff00"/>
                </a:solidFill>
                <a:latin typeface="Arial"/>
              </a:rPr>
              <a:t>metadata oluşturma araçlar</a:t>
            </a: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ı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 Tur"/>
              </a:rPr>
              <a:t>Kütüphane-Profesyoneller-MARC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 Tur"/>
              </a:rPr>
              <a:t>Kaotik online dünya-Bireyler-Tarama motorları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 Tur"/>
              </a:rPr>
              <a:t>İnsan ve makina tarafından anlaşılabilmeli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 Tur"/>
              </a:rPr>
              <a:t>Oluşturması kolay olmalı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 Tur"/>
              </a:rPr>
              <a:t>Bir kaynak yaratılırken oluşturulması 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 Tur"/>
              </a:rPr>
              <a:t>Varolan kaynaklar için de araçlar mevcut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ff00"/>
                </a:solidFill>
                <a:latin typeface="Arial"/>
              </a:rPr>
              <a:t>metadata oluşturma araçlar</a:t>
            </a: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ı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 Tur"/>
              </a:rPr>
              <a:t>Editörler (Editors)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 T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 Tur"/>
              </a:rPr>
              <a:t>Boş bir form sağlar, gerekli veriler girilir. Destek yazılımı girilen bilgileri HTML tag haline getirir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 Tur"/>
              </a:rPr>
              <a:t>Yaratıcılar (Generators)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 T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 Tur"/>
              </a:rPr>
              <a:t>Varolan HTML kodlu belgelerden metadata bilgisi alır ve HTML tag haline getirir. Bir dizi çıktı seçeneğine sahiptir: HTML v3.2 ya da HTML v4.0 bazıları XML (eXtensible Mark-up Language) oluşturur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ff00"/>
                </a:solidFill>
                <a:latin typeface="Times New Roman Tur"/>
              </a:rPr>
              <a:t>metadata oluşturma araçlar</a:t>
            </a:r>
            <a:r>
              <a:rPr b="1" lang="tr-TR" sz="4400" spc="-1" strike="noStrike">
                <a:solidFill>
                  <a:srgbClr val="ffff00"/>
                </a:solidFill>
                <a:latin typeface="Times New Roman Tur"/>
              </a:rPr>
              <a:t>ı (dev...)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2437920"/>
            <a:ext cx="777240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 Tur"/>
              </a:rPr>
              <a:t>EDİTÖRLER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 T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Tur"/>
              </a:rPr>
              <a:t>NORDIC WEB INDEX DC METADATA TEMPLATE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 T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Tur"/>
              </a:rPr>
              <a:t>GEM(GATEWAY TO EDUCATIONAL MATERIALS)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 T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Tur"/>
              </a:rPr>
              <a:t>METASTAR DATA  ENTRY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 T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Tur"/>
              </a:rPr>
              <a:t>REGGIE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 T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Tur"/>
              </a:rPr>
              <a:t>STATE LIBRARY OF TASMANIA’S GENERIC EDITOR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erişim adresleri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45820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 Tur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 Tur"/>
              </a:rPr>
              <a:t>A script to build META tags using the Dublin Core types 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100"/>
                </a:solidFill>
                <a:uFillTx/>
                <a:latin typeface="Times New Roman Tur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ff0100"/>
                </a:solidFill>
                <a:uFillTx/>
                <a:latin typeface="Times New Roman Tur"/>
                <a:hlinkClick r:id="rId3"/>
              </a:rPr>
              <a:t>vancouver</a:t>
            </a:r>
            <a:r>
              <a:rPr b="0" lang="en-US" sz="2000" spc="-1" strike="noStrike" u="sng">
                <a:solidFill>
                  <a:srgbClr val="ff0100"/>
                </a:solidFill>
                <a:uFillTx/>
                <a:latin typeface="Times New Roman Tur"/>
                <a:hlinkClick r:id="rId4"/>
              </a:rPr>
              <a:t>-</a:t>
            </a:r>
            <a:r>
              <a:rPr b="0" lang="en-US" sz="2000" spc="-1" strike="noStrike" u="sng">
                <a:solidFill>
                  <a:srgbClr val="ff0100"/>
                </a:solidFill>
                <a:uFillTx/>
                <a:latin typeface="Times New Roman Tur"/>
                <a:hlinkClick r:id="rId5"/>
              </a:rPr>
              <a:t>webpages</a:t>
            </a:r>
            <a:r>
              <a:rPr b="0" lang="en-US" sz="2000" spc="-1" strike="noStrike" u="sng">
                <a:solidFill>
                  <a:srgbClr val="ff0100"/>
                </a:solidFill>
                <a:uFillTx/>
                <a:latin typeface="Times New Roman Tur"/>
                <a:hlinkClick r:id="rId6"/>
              </a:rPr>
              <a:t>.com/</a:t>
            </a:r>
            <a:r>
              <a:rPr b="0" lang="en-US" sz="2000" spc="-1" strike="noStrike" u="sng">
                <a:solidFill>
                  <a:srgbClr val="ff0100"/>
                </a:solidFill>
                <a:uFillTx/>
                <a:latin typeface="Times New Roman Tur"/>
                <a:hlinkClick r:id="rId7"/>
              </a:rPr>
              <a:t>VWbot</a:t>
            </a:r>
            <a:r>
              <a:rPr b="0" lang="en-US" sz="2000" spc="-1" strike="noStrike" u="sng">
                <a:solidFill>
                  <a:srgbClr val="ff0100"/>
                </a:solidFill>
                <a:uFillTx/>
                <a:latin typeface="Times New Roman Tur"/>
                <a:hlinkClick r:id="rId8"/>
              </a:rPr>
              <a:t>/</a:t>
            </a:r>
            <a:r>
              <a:rPr b="0" lang="en-US" sz="2000" spc="-1" strike="noStrike" u="sng">
                <a:solidFill>
                  <a:srgbClr val="ff0100"/>
                </a:solidFill>
                <a:uFillTx/>
                <a:latin typeface="Times New Roman Tur"/>
                <a:hlinkClick r:id="rId9"/>
              </a:rPr>
              <a:t>mk</a:t>
            </a:r>
            <a:r>
              <a:rPr b="0" lang="en-US" sz="2000" spc="-1" strike="noStrike" u="sng">
                <a:solidFill>
                  <a:srgbClr val="ff0100"/>
                </a:solidFill>
                <a:uFillTx/>
                <a:latin typeface="Times New Roman Tur"/>
                <a:hlinkClick r:id="rId10"/>
              </a:rPr>
              <a:t>-</a:t>
            </a:r>
            <a:r>
              <a:rPr b="0" lang="en-US" sz="2000" spc="-1" strike="noStrike" u="sng">
                <a:solidFill>
                  <a:srgbClr val="ff0100"/>
                </a:solidFill>
                <a:uFillTx/>
                <a:latin typeface="Times New Roman Tur"/>
                <a:hlinkClick r:id="rId11"/>
              </a:rPr>
              <a:t>dublin</a:t>
            </a:r>
            <a:r>
              <a:rPr b="0" lang="en-US" sz="2000" spc="-1" strike="noStrike" u="sng">
                <a:solidFill>
                  <a:srgbClr val="ff0100"/>
                </a:solidFill>
                <a:uFillTx/>
                <a:latin typeface="Times New Roman Tur"/>
                <a:hlinkClick r:id="rId12"/>
              </a:rPr>
              <a:t>.html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 Tur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 Tur"/>
              </a:rPr>
              <a:t>Nordic Metadata Project</a:t>
            </a:r>
            <a:r>
              <a:rPr b="0" lang="tr-TR" sz="2000" spc="-1" strike="noStrike">
                <a:solidFill>
                  <a:srgbClr val="ffffff"/>
                </a:solidFill>
                <a:latin typeface="Times New Roman Tur"/>
              </a:rPr>
              <a:t> </a:t>
            </a:r>
            <a:r>
              <a:rPr b="0" lang="en-US" sz="2000" spc="-1" strike="noStrike" u="sng">
                <a:solidFill>
                  <a:srgbClr val="ff0100"/>
                </a:solidFill>
                <a:uFillTx/>
                <a:latin typeface="Times New Roman Tur"/>
                <a:hlinkClick r:id="rId13"/>
              </a:rPr>
              <a:t>http://www.</a:t>
            </a:r>
            <a:r>
              <a:rPr b="0" lang="en-US" sz="2000" spc="-1" strike="noStrike" u="sng">
                <a:solidFill>
                  <a:srgbClr val="ff0100"/>
                </a:solidFill>
                <a:uFillTx/>
                <a:latin typeface="Times New Roman Tur"/>
                <a:hlinkClick r:id="rId14"/>
              </a:rPr>
              <a:t>ub</a:t>
            </a:r>
            <a:r>
              <a:rPr b="0" lang="en-US" sz="2000" spc="-1" strike="noStrike" u="sng">
                <a:solidFill>
                  <a:srgbClr val="ff0100"/>
                </a:solidFill>
                <a:uFillTx/>
                <a:latin typeface="Times New Roman Tur"/>
                <a:hlinkClick r:id="rId15"/>
              </a:rPr>
              <a:t>.</a:t>
            </a:r>
            <a:r>
              <a:rPr b="0" lang="en-US" sz="2000" spc="-1" strike="noStrike" u="sng">
                <a:solidFill>
                  <a:srgbClr val="ff0100"/>
                </a:solidFill>
                <a:uFillTx/>
                <a:latin typeface="Times New Roman Tur"/>
                <a:hlinkClick r:id="rId16"/>
              </a:rPr>
              <a:t>lu</a:t>
            </a:r>
            <a:r>
              <a:rPr b="0" lang="en-US" sz="2000" spc="-1" strike="noStrike" u="sng">
                <a:solidFill>
                  <a:srgbClr val="ff0100"/>
                </a:solidFill>
                <a:uFillTx/>
                <a:latin typeface="Times New Roman Tur"/>
                <a:hlinkClick r:id="rId17"/>
              </a:rPr>
              <a:t>.se/metadata/DC_creator.html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imes New Roman Tur"/>
              </a:rPr>
              <a:t>Math-Net 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imes New Roman Tur"/>
              </a:rPr>
              <a:t> </a:t>
            </a:r>
            <a:r>
              <a:rPr b="0" lang="tr-TR" sz="2000" spc="-1" strike="noStrike" u="sng">
                <a:solidFill>
                  <a:srgbClr val="ff0100"/>
                </a:solidFill>
                <a:uFillTx/>
                <a:latin typeface="Times New Roman Tur"/>
                <a:hlinkClick r:id="rId18"/>
              </a:rPr>
              <a:t>http://www.mathematik.uni-snabrueck.de/projects/META/MetaMake2.2.html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imes New Roman Tur"/>
              </a:rPr>
              <a:t>GEM (Gateway to Educational Materials) </a:t>
            </a:r>
            <a:r>
              <a:rPr b="0" lang="tr-TR" sz="2000" spc="-1" strike="noStrike" u="sng">
                <a:solidFill>
                  <a:srgbClr val="ff0100"/>
                </a:solidFill>
                <a:uFillTx/>
                <a:latin typeface="Times New Roman Tur"/>
                <a:hlinkClick r:id="rId19"/>
              </a:rPr>
              <a:t>http://geminfo.org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imes New Roman Tur"/>
              </a:rPr>
              <a:t>MetaStar Data Entry ($) </a:t>
            </a:r>
            <a:r>
              <a:rPr b="0" lang="tr-TR" sz="2000" spc="-1" strike="noStrike" u="sng">
                <a:solidFill>
                  <a:srgbClr val="ff0100"/>
                </a:solidFill>
                <a:uFillTx/>
                <a:latin typeface="Times New Roman Tur"/>
                <a:hlinkClick r:id="rId20"/>
              </a:rPr>
              <a:t>http://www.blueangeltech.com/default.htm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imes New Roman Tur"/>
              </a:rPr>
              <a:t>Reggie </a:t>
            </a:r>
            <a:r>
              <a:rPr b="0" lang="tr-TR" sz="2000" spc="-1" strike="noStrike" u="sng">
                <a:solidFill>
                  <a:srgbClr val="ff0100"/>
                </a:solidFill>
                <a:uFillTx/>
                <a:latin typeface="Times New Roman Tur"/>
                <a:hlinkClick r:id="rId21"/>
              </a:rPr>
              <a:t>http://metadata.net/dstc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imes New Roman Tur"/>
              </a:rPr>
              <a:t>State Library of Tasmania Generic Editor </a:t>
            </a:r>
            <a:r>
              <a:rPr b="0" lang="tr-TR" sz="2000" spc="-1" strike="noStrike" u="sng">
                <a:solidFill>
                  <a:srgbClr val="ff0100"/>
                </a:solidFill>
                <a:uFillTx/>
                <a:latin typeface="Times New Roman Tur"/>
                <a:hlinkClick r:id="rId22"/>
              </a:rPr>
              <a:t>http://www.dstc.edu.au/RDU/MetaWeb/generic_tool.html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ff00"/>
                </a:solidFill>
                <a:latin typeface="Arial"/>
              </a:rPr>
              <a:t>metadata oluşturma araçlar</a:t>
            </a: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ı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451240"/>
            <a:ext cx="7772400" cy="36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 Tur"/>
              </a:rPr>
              <a:t>YARATICILAR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 T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 Tur"/>
              </a:rPr>
              <a:t>DC-DOT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 T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 Tur"/>
              </a:rPr>
              <a:t>MEDICAL METADATA PROJECT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 T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 Tur"/>
              </a:rPr>
              <a:t>TAG GEN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erişim adresleri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8390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Tur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 Tur"/>
              </a:rPr>
              <a:t>DC-dot  </a:t>
            </a:r>
            <a:r>
              <a:rPr b="0" lang="en-US" sz="2000" spc="-1" strike="noStrike" u="sng">
                <a:solidFill>
                  <a:srgbClr val="ff0100"/>
                </a:solidFill>
                <a:uFillTx/>
                <a:latin typeface="Times New Roman Tur"/>
                <a:hlinkClick r:id="rId2"/>
              </a:rPr>
              <a:t>http://www.</a:t>
            </a:r>
            <a:r>
              <a:rPr b="0" lang="en-US" sz="2000" spc="-1" strike="noStrike" u="sng">
                <a:solidFill>
                  <a:srgbClr val="ff0100"/>
                </a:solidFill>
                <a:uFillTx/>
                <a:latin typeface="Times New Roman Tur"/>
                <a:hlinkClick r:id="rId3"/>
              </a:rPr>
              <a:t>ukoln</a:t>
            </a:r>
            <a:r>
              <a:rPr b="0" lang="en-US" sz="2000" spc="-1" strike="noStrike" u="sng">
                <a:solidFill>
                  <a:srgbClr val="ff0100"/>
                </a:solidFill>
                <a:uFillTx/>
                <a:latin typeface="Times New Roman Tur"/>
                <a:hlinkClick r:id="rId4"/>
              </a:rPr>
              <a:t>.ac.</a:t>
            </a:r>
            <a:r>
              <a:rPr b="0" lang="en-US" sz="2000" spc="-1" strike="noStrike" u="sng">
                <a:solidFill>
                  <a:srgbClr val="ff0100"/>
                </a:solidFill>
                <a:uFillTx/>
                <a:latin typeface="Times New Roman Tur"/>
                <a:hlinkClick r:id="rId5"/>
              </a:rPr>
              <a:t>uk</a:t>
            </a:r>
            <a:r>
              <a:rPr b="0" lang="en-US" sz="2000" spc="-1" strike="noStrike" u="sng">
                <a:solidFill>
                  <a:srgbClr val="ff0100"/>
                </a:solidFill>
                <a:uFillTx/>
                <a:latin typeface="Times New Roman Tur"/>
                <a:hlinkClick r:id="rId6"/>
              </a:rPr>
              <a:t>/metadata/</a:t>
            </a:r>
            <a:r>
              <a:rPr b="0" lang="en-US" sz="2000" spc="-1" strike="noStrike" u="sng">
                <a:solidFill>
                  <a:srgbClr val="ff0100"/>
                </a:solidFill>
                <a:uFillTx/>
                <a:latin typeface="Times New Roman Tur"/>
                <a:hlinkClick r:id="rId7"/>
              </a:rPr>
              <a:t>dcdot</a:t>
            </a:r>
            <a:r>
              <a:rPr b="0" lang="en-US" sz="2000" spc="-1" strike="noStrike" u="sng">
                <a:solidFill>
                  <a:srgbClr val="ff0100"/>
                </a:solidFill>
                <a:uFillTx/>
                <a:latin typeface="Times New Roman Tur"/>
                <a:hlinkClick r:id="rId8"/>
              </a:rPr>
              <a:t>/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Tur"/>
              </a:rPr>
              <a:t>Dublin Core Metadata system  http://purl.oclc.org/net/dcms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Tur"/>
              </a:rPr>
              <a:t>Medical Metadata Project  http://medir.ohsu.edu/bicc-informatics/ebm/latest.htm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imes New Roman Tur"/>
              </a:rPr>
              <a:t>TagGen  http://www.hisoftware.com/taggen.htm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Times New Roman Tur"/>
              </a:rPr>
              <a:t>A Practical Implementation of the Dublin Core http://ahds.ac.uk/public/metadata/discovery.html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Kataloglama ve Dizinleme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imes New Roman Tur"/>
              </a:rPr>
              <a:t>Tanımlayıcı ve konu kataloglaması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imes New Roman Tur"/>
              </a:rPr>
              <a:t>AACR, Enstrüksiyon,...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imes New Roman Tur"/>
              </a:rPr>
              <a:t>DDC, LC, UDC,...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imes New Roman Tur"/>
              </a:rPr>
              <a:t>LCSH, MESH, SEARS,...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imes New Roman Tur"/>
              </a:rPr>
              <a:t>Gömüler 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imes New Roman Tur"/>
              </a:rPr>
              <a:t>Makinaca okunabilir kataloglama (MARC)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 T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imes New Roman Tur"/>
              </a:rPr>
              <a:t>856 etiketli alan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ff00"/>
                </a:solidFill>
                <a:latin typeface="Arial"/>
              </a:rPr>
              <a:t>metadata “standartlar</a:t>
            </a: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ı</a:t>
            </a:r>
            <a:r>
              <a:rPr b="1" lang="en-AU" sz="4400" spc="-1" strike="noStrike">
                <a:solidFill>
                  <a:srgbClr val="ffff00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 Tur"/>
              </a:rPr>
              <a:t>Content Standards for Digital Geospatial Metadata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 Tur"/>
              </a:rPr>
              <a:t>Encoded Archival Description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 Tur"/>
              </a:rPr>
              <a:t>Text Encoding Initiative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 Tur"/>
              </a:rPr>
              <a:t>Categories for the Description of Works of Art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 Tur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 Tur"/>
              </a:rPr>
              <a:t>Dublin Core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ff00"/>
                </a:solidFill>
                <a:latin typeface="Arial"/>
              </a:rPr>
              <a:t>dublin core (http://purl.org/dc/)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 Tur"/>
              </a:rPr>
              <a:t>Farklı türlerdeki bilgi kaynaklarını standart bir biçimde tanımlama ve tek bir tarama işleminde farklı türlere erişebilmek için (1995-1996) geliştirildi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 Tur"/>
              </a:rPr>
              <a:t>Dublin Core Element Set’</a:t>
            </a:r>
            <a:r>
              <a:rPr b="0" lang="tr-TR" sz="3200" spc="-1" strike="noStrike">
                <a:solidFill>
                  <a:srgbClr val="ffffff"/>
                </a:solidFill>
                <a:latin typeface="Times New Roman Tur"/>
              </a:rPr>
              <a:t>i</a:t>
            </a:r>
            <a:r>
              <a:rPr b="0" lang="en-AU" sz="3200" spc="-1" strike="noStrike">
                <a:solidFill>
                  <a:srgbClr val="ffffff"/>
                </a:solidFill>
                <a:latin typeface="Times New Roman Tur"/>
              </a:rPr>
              <a:t> 15 ögeden oluşmaktadır.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ff00"/>
                </a:solidFill>
                <a:latin typeface="Arial"/>
              </a:rPr>
              <a:t>dublin core element set</a:t>
            </a: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 Tur"/>
              </a:rPr>
              <a:t>Eser adı (Title)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 Tur"/>
              </a:rPr>
              <a:t>Yazar ya da yaratan (Author or Creator)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 Tur"/>
              </a:rPr>
              <a:t>Konu ve anahtar kelimeler (Subject and keywords)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 Tur"/>
              </a:rPr>
              <a:t>Tanım (Description)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 Tur"/>
              </a:rPr>
              <a:t>Yayıncı (Publisher)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imes New Roman Tur"/>
              </a:rPr>
              <a:t>Diğer katkıda bulunanlar (Other Contributors)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ff00"/>
                </a:solidFill>
                <a:latin typeface="Times New Roman Tur"/>
              </a:rPr>
              <a:t>dublin core element set</a:t>
            </a:r>
            <a:r>
              <a:rPr b="1" lang="tr-TR" sz="4400" spc="-1" strike="noStrike">
                <a:solidFill>
                  <a:srgbClr val="ffff00"/>
                </a:solidFill>
                <a:latin typeface="Times New Roman Tur"/>
              </a:rPr>
              <a:t>i (dev...)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2133360"/>
            <a:ext cx="7772400" cy="402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 Tur"/>
              </a:rPr>
              <a:t>Tarih (Date)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 Tur"/>
              </a:rPr>
              <a:t>Kaynak tipi (Resource type)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 Tur"/>
              </a:rPr>
              <a:t>Biçim (Format)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 Tur"/>
              </a:rPr>
              <a:t>Kaynak tanımlayıcı (Resource identifier)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 Tur"/>
              </a:rPr>
              <a:t>Kaynak (Source)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 Tur"/>
              </a:rPr>
              <a:t>Dil (Language)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 Tur"/>
              </a:rPr>
              <a:t>İlişki (Relation)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 Tur"/>
              </a:rPr>
              <a:t>Kapsam (Coverage)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 Tur"/>
              </a:rPr>
              <a:t>Hakların Yönetimi (Right Management)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Türkçe dublin core editörü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2895480"/>
            <a:ext cx="853452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imes New Roman Tur"/>
              </a:rPr>
              <a:t>Hacettepe Üniversitesi Bilgisayar Mühendisliği Bölümünde gerçekleşitilen bir proje: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imes New Roman Tur"/>
              </a:rPr>
              <a:t>H-DCEdit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imes New Roman Tur"/>
              </a:rPr>
              <a:t>Ayrıntılı bilgi için: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 Tur"/>
              </a:rPr>
              <a:t>http://www.cs.hun.edu.tr/~km/baha/hdcedit.html</a:t>
            </a:r>
            <a:r>
              <a:rPr b="0" lang="tr-TR" sz="3200" spc="-1" strike="noStrike">
                <a:solidFill>
                  <a:srgbClr val="ffffff"/>
                </a:solidFill>
                <a:latin typeface="Times New Roman Tur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Değerlendirme?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2133360"/>
            <a:ext cx="7772400" cy="402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Times New Roman Tur"/>
              </a:rPr>
              <a:t>Erişim anarşisi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 Tur"/>
              </a:rPr>
              <a:t>Standart tanımlama, Metadata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 Tur"/>
              </a:rPr>
              <a:t>DC giderek en yaygın çözüm olma yolunda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 Tur"/>
              </a:rPr>
              <a:t>Türkçe dahil bir çok dile çevrildi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 Tur"/>
              </a:rPr>
              <a:t>Konunun öneminin kurumlar ve bireyler tarafından kavranması ve metadata’nın üretilmesi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Times New Roman Tur"/>
              </a:rPr>
              <a:t>Anarşinin önlenmesinde uygun çözüm olarak ortaya çıkmaktadır.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DOI: Digital Object Identifier</a:t>
            </a:r>
            <a:br>
              <a:rPr sz="4400"/>
            </a:b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(Dijital Nesne Tanımlayıcı)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imes New Roman Tur"/>
              </a:rPr>
              <a:t>“</a:t>
            </a:r>
            <a:r>
              <a:rPr b="0" lang="tr-TR" sz="2400" spc="-1" strike="noStrike">
                <a:solidFill>
                  <a:srgbClr val="ffffff"/>
                </a:solidFill>
                <a:latin typeface="Times New Roman Tur"/>
              </a:rPr>
              <a:t>21. Yüzyılın ISBN numarası”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imes New Roman Tur"/>
              </a:rPr>
              <a:t>Dijital nesnelere ilişkin tek ve sürekli bir numara.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imes New Roman Tur"/>
              </a:rPr>
              <a:t>Her büyüklükteki bir nesneye, derginin tamamına, bir makaleye,  bir makale içindeki paragrafa ya da imaja verilebilir .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imes New Roman Tur"/>
              </a:rPr>
              <a:t>DOI numaraları ve ilişkili URL adresleri bir dolaşım sistemi görevi gören merkezi bir DOI rehberine kaydedilir. 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imes New Roman Tur"/>
              </a:rPr>
              <a:t>Bir nesneye erişebilmek için, kullanıcı DOI numarasını bu rehbere gönderir ve isteği ilgili URL adresine yönlendirilir.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imes New Roman Tur"/>
              </a:rPr>
              <a:t>Yayıncı bir nesnenin URL adresi değistiğinde rehberi güncellemekle yükümlüdür. 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imes New Roman Tur"/>
              </a:rPr>
              <a:t>Ayrıntılı bilgi için: </a:t>
            </a:r>
            <a:r>
              <a:rPr b="0" lang="en-GB" sz="2400" spc="-1" strike="noStrike">
                <a:solidFill>
                  <a:srgbClr val="ffffff"/>
                </a:solidFill>
                <a:latin typeface="Times New Roman Tur"/>
              </a:rPr>
              <a:t>http://yunus.hacettepe.edu.tr/~tonta/yayinlar/inet99/v3_document.htm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DOI numarası bileşenleri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imes New Roman Tur"/>
              </a:rPr>
              <a:t>DOI acentası tarafından her yayıncıya verilen bir ön numara 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imes New Roman Tur"/>
              </a:rPr>
              <a:t>Örneğin </a:t>
            </a:r>
            <a:r>
              <a:rPr b="0" lang="en-GB" sz="3200" spc="-1" strike="noStrike">
                <a:solidFill>
                  <a:srgbClr val="ffffff"/>
                </a:solidFill>
                <a:latin typeface="Times New Roman Tur"/>
              </a:rPr>
              <a:t>Springer-Verlag "10.1007" 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imes New Roman Tur"/>
              </a:rPr>
              <a:t>Sonra, yayıncı tarafından belirlenen herhangi bir kod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Times New Roman Tur"/>
              </a:rPr>
              <a:t>DOI numarası: 10.000/123456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 Tur"/>
              </a:rPr>
              <a:t>http://dx.doi.org/10.1007/s00214990m180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Tartışma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560" y="2057040"/>
            <a:ext cx="876276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ff00"/>
                </a:solidFill>
                <a:latin typeface="Times New Roman Tur"/>
              </a:rPr>
              <a:t>Elektronik Yayınların Kataloglanması ve Dizinlenmesi</a:t>
            </a:r>
            <a:r>
              <a:rPr b="1" lang="en-AU" sz="6000" spc="-1" strike="noStrike">
                <a:solidFill>
                  <a:srgbClr val="ffff00"/>
                </a:solidFill>
                <a:latin typeface="Times New Roman Tur"/>
              </a:rPr>
              <a:t> </a:t>
            </a:r>
            <a:endParaRPr b="0" lang="en-US" sz="60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047760" y="5029200"/>
            <a:ext cx="609444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ffffff"/>
                </a:solidFill>
                <a:latin typeface="Arial"/>
              </a:rPr>
              <a:t>Mehmet Emin Küçük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H.Ü. Kütüphanecilik Bölümü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mkucuk</a:t>
            </a: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@hacettepe.edu.tr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ff"/>
                </a:solidFill>
                <a:latin typeface="Times New Roman Tur"/>
              </a:rPr>
              <a:t>ELEKTRONİK BİLGİ KAYNAKLARI VE KAOTİK ÇEVİRİMİÇİ DÜNYA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Elektronik bilgi kaynakları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534520" cy="4648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 Tur"/>
              </a:rPr>
              <a:t>Hızla büyüyen Internet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 Tur"/>
              </a:rPr>
              <a:t>Web sitelerinin sayısı her 100-125 günde ikiye katlanıyor (1996)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 Tur"/>
              </a:rPr>
              <a:t>Her dört ayda bir ikiye katlanıyor (1997)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 Tur"/>
              </a:rPr>
              <a:t>1998; 29.67 milyon host, 2.5 milyon domain, 2.45 milyon Web sitesi (Internet Valey Inc.)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imes New Roman Tur"/>
              </a:rPr>
              <a:t>2000: 50 milyon bilgisayar bağlı, 304 milyon kullanıcı, 7 milyon web sitesi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 Tur"/>
              </a:rPr>
              <a:t>Günümüzde; </a:t>
            </a:r>
            <a:r>
              <a:rPr b="0" lang="tr-TR" sz="2400" spc="-1" strike="noStrike">
                <a:solidFill>
                  <a:srgbClr val="ffffff"/>
                </a:solidFill>
                <a:latin typeface="Times New Roman Tur"/>
              </a:rPr>
              <a:t>2</a:t>
            </a:r>
            <a:r>
              <a:rPr b="0" lang="en-AU" sz="2400" spc="-1" strike="noStrike">
                <a:solidFill>
                  <a:srgbClr val="ffffff"/>
                </a:solidFill>
                <a:latin typeface="Times New Roman Tur"/>
              </a:rPr>
              <a:t>00 milyon Internet dokümanı</a:t>
            </a:r>
            <a:r>
              <a:rPr b="0" lang="tr-TR" sz="2400" spc="-1" strike="noStrike">
                <a:solidFill>
                  <a:srgbClr val="ffffff"/>
                </a:solidFill>
                <a:latin typeface="Times New Roman Tur"/>
              </a:rPr>
              <a:t>, 2007’de 800 milyon Internet dokümanı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Times New Roman Tur"/>
              </a:rPr>
              <a:t>Ülkemizde: 60.000 bilgisayar Internet’e bağlı, ~450.000 kullanıcı, 8.000 web sitesi 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Kaynaklara erişim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79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 Tur"/>
              </a:rPr>
              <a:t>En yaygın olarak kullanılan bilgi erişim aracı; WWW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 Tur"/>
              </a:rPr>
              <a:t>Hipermetin teknolojisi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 Tur"/>
              </a:rPr>
              <a:t>15 milyar kelimeden oluşan bir ansiklopedi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 Tur"/>
              </a:rPr>
              <a:t>Tam metin arama motorları; Alta Vista, Excite, Hot Bot, Infoseek, Lycos, …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 Tur"/>
              </a:rPr>
              <a:t>Mevcut Web sayfalarının kapsanma oranı;Northern Light %16, Alta Vista %15, Hot Bot %11.3, Infoseek %8, Yahoo %5.6, Lycos %2.5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990720"/>
            <a:ext cx="6781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1" lang="en-AU" sz="4400" spc="-1" strike="noStrike">
                <a:solidFill>
                  <a:srgbClr val="ffff00"/>
                </a:solidFill>
                <a:latin typeface="Arial"/>
              </a:rPr>
              <a:t>ilgi erişim sorunlar</a:t>
            </a:r>
            <a:r>
              <a:rPr b="1" lang="tr-TR" sz="4400" spc="-1" strike="noStrike">
                <a:solidFill>
                  <a:srgbClr val="ffff00"/>
                </a:solidFill>
                <a:latin typeface="Arial"/>
              </a:rPr>
              <a:t>ı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2666880"/>
            <a:ext cx="7772400" cy="32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 Tur"/>
              </a:rPr>
              <a:t>Erişim (recall) ve kesin (precision) isabet faktörü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 Tur"/>
              </a:rPr>
              <a:t>zayıf erişim (poor recall) ve zayıf kesin isabet (poor precision)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 Tur"/>
              </a:rPr>
              <a:t>%10-20’lik erişim ve kesin isabet (recall &amp; precision) faktörü bir çok amaç için uygun kabul edilebilir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 Tur"/>
              </a:rPr>
              <a:t>Web arama motorlarında kesin isabet %1’den az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5T08:37:45Z</dcterms:created>
  <dc:creator>asd</dc:creator>
  <dc:description/>
  <dc:language>en-US</dc:language>
  <cp:lastModifiedBy>mkucuk</cp:lastModifiedBy>
  <cp:lastPrinted>2000-03-28T13:47:03Z</cp:lastPrinted>
  <dcterms:modified xsi:type="dcterms:W3CDTF">2000-09-01T12:13:54Z</dcterms:modified>
  <cp:revision>155</cp:revision>
  <dc:subject/>
  <dc:title>Elektronik Yayıncılık ve Bilimsel İletişim: Teknoloji, Ekonomi ve Arşivleme ile İlgili Sorunlar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yunus.hacettepe.edu.tr/~tonta/tonta.html</vt:lpwstr>
  </property>
  <property fmtid="{D5CDD505-2E9C-101B-9397-08002B2CF9AE}" pid="9" name="LinkColor">
    <vt:r8>16711782</vt:r8>
  </property>
  <property fmtid="{D5CDD505-2E9C-101B-9397-08002B2CF9AE}" pid="10" name="MailAddress">
    <vt:lpwstr>tonta@hacettepe.edu.tr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mydocum\SUNUSLAR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