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3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ff00"/>
                </a:solidFill>
                <a:latin typeface="Times New Roman Tur"/>
              </a:rPr>
              <a:t>Elektronik Kütüphaneler ve </a:t>
            </a:r>
            <a:br>
              <a:rPr sz="6000"/>
            </a:br>
            <a:r>
              <a:rPr b="1" lang="tr-TR" sz="6000" spc="-1" strike="noStrike">
                <a:solidFill>
                  <a:srgbClr val="ffff00"/>
                </a:solidFill>
                <a:latin typeface="Times New Roman Tur"/>
              </a:rPr>
              <a:t>Otomasyon Yazılımları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Mehmet Emin Küçü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kucuk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Süreli yayın deneti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Sipariş ve abonelik deneti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İzleme (check-in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Dolaşıma sunma (routing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Uyarı işlemleri (claiming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Cilde hazırl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Fon yönetim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Sorgul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Raporlar ve istatistik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Yöneti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Raporlar ve istatistik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Uçların denet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Yedeklem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Güvenli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çimde gözönüne al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nacak unsur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ENEL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KNİ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ESTE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LİYE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nel unsur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807732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Kullanan Kütüphanelerin Deneyimi-İzlenimi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eliştiren Firmanın Ünü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Sağlayan Firmanın Ünü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knik unsur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azılımın Hızı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evcut Donanımla Uygunluğu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Mevcut İşletim Sistemiyle Uygunluğu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ata Sınırları ? (Kayıt sayısı, dosya hacmi, bilgi alanı sayısı, alan uzunluğu v.b.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Kullanım Kolaylığı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esteklenen İletişim Protokolleri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estek unsur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Dokümantasyon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Eğitim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azılımdaki Değişiklikler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azılımın Yeni Versiyonu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Kullanıcı Klubü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aliyet unsuru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Fiyatı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ıllık Bakım Ücreti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Yazılı Garantisi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"/>
              </a:rPr>
              <a:t>Garantisi Yasal mı 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Mevcut ticari yazılım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Yabancı: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Millennium (Innopaq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Aleph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Yerli: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BİLSİ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BLIS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İskenderiy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KUTUP MW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Kybel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TEK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Yordam 2001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ffff00"/>
                </a:solidFill>
                <a:latin typeface="Arial"/>
              </a:rPr>
              <a:t>Tartışma: çalıştığınız kurumdaki yazılımlar</a:t>
            </a:r>
            <a:endParaRPr b="0" lang="en-US" sz="5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ff00"/>
                </a:solidFill>
                <a:latin typeface="Times New Roman Tur"/>
              </a:rPr>
              <a:t>Elektronik Kütüphaneler ve </a:t>
            </a:r>
            <a:br>
              <a:rPr sz="6000"/>
            </a:br>
            <a:r>
              <a:rPr b="1" lang="tr-TR" sz="6000" spc="-1" strike="noStrike">
                <a:solidFill>
                  <a:srgbClr val="ffff00"/>
                </a:solidFill>
                <a:latin typeface="Times New Roman Tur"/>
              </a:rPr>
              <a:t>Otomasyon Yazılımları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Mehmet Emin Küçü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kucuk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Elektronik Kütüphan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Bilginin hızlı artış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Değişen kullanıcı gereksin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Bilginin sunulduğu kaynaklardaki değiş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Bilgi hizmetleri ve teknoloj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Times New Roman Tur"/>
              </a:rPr>
              <a:t>ELEKTRONİK KÜTÜPHAN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Sistem Bileşen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İnsan gücü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Yazılı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Donanı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YAZILIM: Seçenek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Yazılım geliştirme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Anahtar teslim sistem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Mevcut bir yazılımın uyarlan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Fonksiyon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Sağlam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Kataloglam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OPAC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Ödünç verm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Kütüphanelerarası ödünç ver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Reservasyo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Süreli yayın denet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Yönet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Sağlama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Sipariş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Elektronik veri değiş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Alındı ve fatura işlem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Uyarma (claiming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Fon denetimi (muhasebe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Sorgulam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Raporlar ve istatistik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Kataloglama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Veri girişi ve düzeltm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Otorite denet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Veri transf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Veritabanına eriş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OPAC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Katalog çıktı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Ödünç verm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Parametre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Ödünç verme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Kısa süreli ödünç verm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İad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Süre uzat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Cezalar/Ücretlendir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Ayırt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Kullanıcı veritaban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Sorgul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Uyarıl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Raporlar ve istatistik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ffff00"/>
                </a:solidFill>
                <a:latin typeface="Arial"/>
              </a:rPr>
              <a:t>Kütüphanelerarası ödünç verme</a:t>
            </a:r>
            <a:endParaRPr b="0" lang="en-US" sz="36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İstekte bulun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İsteklerin iletim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Alındı-verildi belgesi ve ödünç ver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İadeler, uzatmalar, gecikenler ve geri isteme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Raporlandırma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Otomatik takipçi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İptal işlem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Sorgul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Raporlar ve istatistik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Diğer kütüphanelere ödünç verilen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mkucuk</cp:lastModifiedBy>
  <cp:lastPrinted>2000-03-28T13:47:03Z</cp:lastPrinted>
  <dcterms:modified xsi:type="dcterms:W3CDTF">2000-09-01T12:24:16Z</dcterms:modified>
  <cp:revision>160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