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824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57400"/>
            <a:ext cx="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" name=""/>
          <p:cNvSpPr/>
          <p:nvPr/>
        </p:nvSpPr>
        <p:spPr>
          <a:xfrm>
            <a:off x="4896360" y="1440"/>
            <a:ext cx="42476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Elektronik Kütüphanecilik Semineri”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4-8 Eylül 2000, Ankara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imes New Roman Tur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" name=""/>
          <p:cNvSpPr/>
          <p:nvPr/>
        </p:nvSpPr>
        <p:spPr>
          <a:xfrm>
            <a:off x="-412200" y="6600960"/>
            <a:ext cx="1139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chnical"/>
              </a:rPr>
              <a:t>Y.T.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  <p:pic>
        <p:nvPicPr>
          <p:cNvPr id="4" name="amblem" descr=""/>
          <p:cNvPicPr/>
          <p:nvPr/>
        </p:nvPicPr>
        <p:blipFill>
          <a:blip r:embed="rId3"/>
          <a:stretch/>
        </p:blipFill>
        <p:spPr>
          <a:xfrm>
            <a:off x="0" y="0"/>
            <a:ext cx="676440" cy="1095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spcBef>
                <a:spcPts val="60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 Tu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Kütüphaneciliğin Ekonomisi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9144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Bilgilerin Lisans Ücretleri : OhioLINK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hioLINK-Elsevier Anlaşma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150 dergi (tam metin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40 üniversite (500.000 öğrenci ve öğretim üyesi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3 yıllık bir anlaş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$23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hioLINK-Academic Press Anlaşma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75 Academic Press dergi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ılda $3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914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Bilgilerin Lisans Ücretleri: Elsevi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2856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lsevier-U. of Madison-Wisconsin Anlaşma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sılı kopyalara abonelik zorunlu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sılı dergilere ödenen ücretler + ilk yıl %7.5, 2. ve 3. yıllarda %9.5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600 dergi için $844.000 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sevier üç yılda $450.000 daha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zladan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kazanaca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rtı kütüphane yılda $100.000 da veri tabanı yükleme ve işletme giderleri için ödeyece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1" lang="en-AU" sz="5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Kütüphaneciliğin Ekonomisi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Bilginin Fiyatlandırılması 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Üretimi pahalı, çoğaltması ucuz (EB örneği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İlk kopya maliyeti/Batık maliyet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zla kopya çoğaltma maliyeti pek değiştirmi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zla kopya çoğaltmak doğal kapasiteyle (kağıt vs.) sınırlı değil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Bilginin Fiyatlandırılması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ilginin “metalaştırılması”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azar yapıs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Ürünün farklılaştırılmas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Ölçek ekonomisinden yararlanarak fiyat düşürme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İlk olma avantaj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Ürünün kişiselleştirilme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üşterinin tanınmas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ayıt ve faturala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mosyon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Bilginin Fiyatlandırılması I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işisel fiyatlandırma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rklı sürümlerin pazarlanma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rup fiyatlandırması (konsorsiyumlar vs.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iyat duyarlılığ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ğ etkiler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ilitlem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aylaş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Bilginin Fiyatlandırılması IV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rklı müşteri ihtiyaçlarına ve müşteri gruplarına göre farklı elektronik bilgi ürünler pazara sürerek bilginin toplanm değerinin artırılma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rklı bilgi ürünleri tasarlama ve pazara sunma taktikler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eciktirme, kullanıcı arabirimi, kolaylik, görüntü kalitesi, hız, kullanım esnekliği, kapasite, özellik ve işlevler, kapsamlılık, deste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konomik Sorunlar-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iyatlandırma zorluğu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İlk kopya (derleme, dizme, üretim ve dağıtım giderleri) giderler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lektronik dergilerin maliyeti: </a:t>
            </a:r>
            <a:r>
              <a:rPr b="1" lang="en-AU" sz="3200" spc="-1" strike="noStrike">
                <a:solidFill>
                  <a:srgbClr val="cf0e30"/>
                </a:solidFill>
                <a:latin typeface="Arial"/>
              </a:rPr>
              <a:t>$40-$45/sayfa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asılı dergilerin maliyeti: </a:t>
            </a:r>
            <a:r>
              <a:rPr b="1" lang="en-AU" sz="3200" spc="-1" strike="noStrike">
                <a:solidFill>
                  <a:srgbClr val="cf0e30"/>
                </a:solidFill>
                <a:latin typeface="Arial"/>
              </a:rPr>
              <a:t>$23/sayfa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bone sayısı azsa basılı kopya daha ucuz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tematikte yayın maliyeti: </a:t>
            </a:r>
            <a:r>
              <a:rPr b="1" lang="en-AU" sz="3200" spc="-1" strike="noStrike">
                <a:solidFill>
                  <a:srgbClr val="cf0e30"/>
                </a:solidFill>
                <a:latin typeface="Arial"/>
              </a:rPr>
              <a:t>$4000/makale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(%70’i editoryal/basım giderleri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kuyucu başına maliyet: </a:t>
            </a:r>
            <a:r>
              <a:rPr b="1" lang="en-AU" sz="3200" spc="-1" strike="noStrike">
                <a:solidFill>
                  <a:srgbClr val="cf0e30"/>
                </a:solidFill>
                <a:latin typeface="Arial"/>
              </a:rPr>
              <a:t>$200/makal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önüştürüm maliyeti (JSTOR: </a:t>
            </a:r>
            <a:r>
              <a:rPr b="1" lang="en-AU" sz="3200" spc="-1" strike="noStrike">
                <a:solidFill>
                  <a:srgbClr val="cf0e30"/>
                </a:solidFill>
                <a:latin typeface="Arial"/>
              </a:rPr>
              <a:t>$1/sayfa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konomik Sorunlar-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ilgi “tecrübi bir meta”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kel gücü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alebin esnek olmaması: faturayı kütüphaneler ödüyor, bilim insanları değil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-yayınlar ekstra maliyet getiriyor; basılı olanlar için yapılan herşey yapılıyor artı diğer maliyetler  (ağ, sunucu, vb. gibi)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asılı dergilerde basım ve dağıtım maliyetleri toplam maliyetin %25-%30’u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Kütüphaneler bütçelerinin %10-%15’ini elektronik bilgi sağlamaya ayırıyorlar (UNC: 1.5MUSD/9.5USD) (Bu oran üç yıl önce %6-%10 civarındaydı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konomik Model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boneliğe dayalı modellerden henüz oturmamış modellere (sahip olma - erişim) yönelim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boneliğe dayalı modeller (sabit fiyatlar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İşleme dayalı (transaction-based) fiyatlandır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İkisinin birleşimi (“kullandıkça öde” -pay-per-view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rişim başına ücret ödeme (ör., Dialog veri tabanları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işisel/kurumsal/konsorsiyal lisanslar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560" y="114264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Bilgilerin Lisans Ücretleri: IS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8153280" cy="35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SI (1982-1997: site başına en fazla 15 eşzamanlı kullanıcı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I $460.000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SCI $210.000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HCI $194.000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urrent Contents (1997) $60.000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7" name=""/>
          <p:cNvSpPr/>
          <p:nvPr/>
        </p:nvSpPr>
        <p:spPr>
          <a:xfrm>
            <a:off x="4479840" y="2879640"/>
            <a:ext cx="1017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08:37:45Z</dcterms:created>
  <dc:creator>asd</dc:creator>
  <dc:description/>
  <dc:language>en-US</dc:language>
  <cp:lastModifiedBy>a</cp:lastModifiedBy>
  <cp:lastPrinted>2000-03-28T13:47:03Z</cp:lastPrinted>
  <dcterms:modified xsi:type="dcterms:W3CDTF">2000-08-31T18:01:18Z</dcterms:modified>
  <cp:revision>153</cp:revision>
  <dc:subject/>
  <dc:title>Elektronik Yayıncılık ve Bilimsel İletişim: Teknoloji, Ekonomi ve Arşivleme ile İlgili Sorunla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yunus.hacettepe.edu.tr/~tonta/tonta.html</vt:lpwstr>
  </property>
  <property fmtid="{D5CDD505-2E9C-101B-9397-08002B2CF9AE}" pid="9" name="LinkColor">
    <vt:r8>16711782</vt:r8>
  </property>
  <property fmtid="{D5CDD505-2E9C-101B-9397-08002B2CF9AE}" pid="10" name="MailAddress">
    <vt:lpwstr>tonta@hacettepe.edu.t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docum\SUNUSLAR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