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71360" y="717120"/>
            <a:ext cx="471636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Napster davasından ve SPARC projesinden söz edilebilir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Napster davasından ve SPARC projesinden söz edilebilir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ipo.org/" TargetMode="External"/><Relationship Id="rId3" Type="http://schemas.openxmlformats.org/officeDocument/2006/relationships/hyperlink" Target="http://www.wipo.org/" TargetMode="External"/><Relationship Id="rId4" Type="http://schemas.openxmlformats.org/officeDocument/2006/relationships/hyperlink" Target="http://www.copyright.com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cilik ve Entellektüel Mülkiyet Hakları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nemli, değerl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r eserin “önemli”den daha azını kopyalayabilirsin. Ne demek? Kitabın %10’u? Bir dergiden bir makale? Cinayet romanının son sayfasından cinayeti kimin işlediğini öğreniyorsan belki de bu “önemli”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akul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kul ölçüde kopyalanab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 tabanı makul ölçüde kullanılab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zgün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ç bir yasada tanımı yo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aha önce bir yere kopyalanmamış, insan aklının bir ürünü ol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bit olmalı (şu andaki konuşmam telif hakkına girmiyor, ama kaydedilirse telif hakkı va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ürüst Kullanı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lif hakkı yasasında bazı istisnalar v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raştırma/özel çalışma (veri tabanları için özel kurallar geçerli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ştiri/değerlendirme (bütün yasalarda bilimsel bir buluşu vs. haber vermeye izin veriliyor, ama tanımlanmamış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üncel olayları haber verme (Prenses Diana-El Fayed örneği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maç telif hakkı sahibine zarar vermeden eseri kullanmak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İngiltere ve ABD’de bir ticari firma için çalışıyor olsanız bile araştırma/özel çalışma için kopyalama serbest. Dürüst olmak demek eser sahibini kazanabileceği paradan yoksun bırakmamak demek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ütüphanelerin ayrıcalık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hlaki ve Ekonomik Hak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lif hakkı eser (bilimsel makale, resim, roman vs.) yaratcısınındır/yazarınındı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zarlık ve sahiplik farklı kavram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ipografik düzenle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isans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ilgiler için telif hakkı yasalarından çok kontrat hukukundan (lisanslar) yararlanıl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opyright Clearance Center (ABD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zarın isteği üzerine hakları izl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iderek elektronik olanları da kaps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arsayılan lisans (editöre mektup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ütünlüğün korunması için verilen genel izinler (yasa metinleri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Yayıncılık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yın” neleri içeriyor?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yıncıların basılı kopya için telif hakkı almaları aynı metnin değişik formatlarda yayınlanmasına izin veriyor mu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Veri Taban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salar ABD ve İngiltere’de farklı, Avrupa ülkelerinde fark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B’nin “veri tabanı” tanımı: “sistematik veya yöntemsel olarak düzenlenmiş ve elektronik ya da diğer yollardan bireysel olarak erişilebilen eserler, veriler ve diğer materyaller topluluğu”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rnekler: kütüphane kataloğu, aile fotoğrafları??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Veri Tabanı Hak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hibinin hakk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 tabanı hakkı (15 yıl) (veri tabanına eklemeler yapıldıkça süre yeniden başlıyo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limsel kaynakça (yazarın ölümünden sonra 70 yıl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 tabanı hakkı için ne yapmak gerekli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eri sağ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eri doğru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Veri sunuş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lif hakkı geçer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ngi ulusal yasa geçerli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işisel kullan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şlık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 sitesi nedir? Yayın mı? Kablo TV mi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ipermetin bağlantıları (Shetland Times/News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Zarara uğr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yın nedir? Okunmayan şey yayın mıdır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ntrata uym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sans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ntranet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jital Yayın Teknoloji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iyetleri düşürü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438120" indent="-168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Çoğalt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438120" indent="-168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ğıtım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nik içerik bazen ücretsiz dağıtılabiliyo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Ürün farklılaştırıl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-2023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mamlayıcı ürünler geliştir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-20232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piro/Varian (1999)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  <a:p>
            <a:pPr marL="202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vrupa Taslak Direktif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Çoğaltma hakk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alka yayma hakk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stisna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ağıtım hakk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eknolojik Önlem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ITED: Control in Transmitting Electronic Documents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oküman üzerinde erişim, telif hakkı bilgilerinin saklan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iligranlar (DigiMarc örneği)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kıllı kart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oru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ağıt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elge sağ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bilginin kişisel veri tabanlarında tutu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 sayfalarının ya da bütün sitelerin yansılanması /intranete aktarı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telif hakkı yönetim sistem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bilginin dürüst kullanım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yıncı-üçüncü parti ilişki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şiv kopyasını kim koruyor (sahibi kalıcı depolamaya ya da indirmeye izin vermiyors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İlgili Web Site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WIPO: World Intellectual Copyright Organizati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www.wipo.</a:t>
            </a:r>
            <a:r>
              <a:rPr b="0" lang="tr-TR" sz="24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org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Copyright Clearance Cent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http://www.copyright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Fikir ve Sanat Eserleri Kanun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ttp://www.ilesam.hacettepe.edu.tr/fsek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Copyright Resources Onlin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ttp://www.library.yale.edu/~okerson/copyproj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8305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cilik ve Entellektüel Mülkiyet Hakları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ğişen Telif Hakkı Anlayış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gi özgür olmalı” (J.P. Barlow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jital nesnelerin tanımlanması, düzenlenmesi ve korun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ilgi ticaret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ilgilerin korunması ve tiacretiyle ilgili uluslararası anlaşma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telif hakkı yönetim sistem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ilgi edinme özgürlüğü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lif Hakk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ukuk her zaman teknolojiden sonra ge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lif hakları çoğu yasalarda entellektüel mülkiyet rejiminin bir parçası (diğerleri ticari markalar ve patentle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lif hakkı için kayıt zorunlu deği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icari markalar süres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atentler yenileneb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elif Hakkı Yasa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eyin korunup neyin korunmadığını tanım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hibinin bu eser/ürünle ne yapıp yapamayacağını belir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ullanıcının haklarını düzen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hibiyle kullanıcı arasında denge kur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anı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lif hakkı özgün ve yaratı ürünü olan herşeyde var: bina, mücevher, yazılım, kitap, vs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seri/ürünü yaratanın telif hakkını tanıyan bir ülkenin vatandaşı olması gerekl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zı ülkeler tanımıyor (ör, Kuzey Kore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Çoğu ülkeler Bern Antlaşmasını ve Dünya Ticaret Antlaşmasını tan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opyala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debi, sanatsal, musiki değeri olan bir çalışmanın bir ortam üzerine kopyalanması anlamına geliyor (elektronik kopyalama dahil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Yaz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serin yaratıcısı (yazar, yönetmen, heykeltraş, vs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ma bazı materyallerde (ses, video vs.) kimin “yazar” olduğunu belirlemek kolay değil (konuşmayı yapan mı kaydı yapan mı “yazar”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anımlanmamış Terim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nemli, değerli (substantial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ku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zgü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ürüst kullanı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ütüphan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8-31T23:03:50Z</dcterms:modified>
  <cp:revision>163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