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3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ff00"/>
                </a:solidFill>
                <a:latin typeface="Times New Roman Tur"/>
              </a:rPr>
              <a:t>Elektronik Kütüphanelerin Kurulması ve Yönetimi</a:t>
            </a:r>
            <a:r>
              <a:rPr b="1" lang="en-AU" sz="6000" spc="-1" strike="noStrike">
                <a:solidFill>
                  <a:srgbClr val="ffff00"/>
                </a:solidFill>
                <a:latin typeface="Times New Roman Tur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Mehmet Emin Küçü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kucuk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rçekleştirim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 (dev...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ÇENEK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Birden yeni sisteme geçiş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Aşamalı geçiş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Paralel işlet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Pilot işlet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irden yeni sisteme geçiş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elirlenen tarihte tamamıyla yeni sisteme geçil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eni sistem çok karmaşık değilse tercih edil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eni sistem dikkatlice planlanmış ve koordine edilmiş olmalıdı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onanım ve yazılım önceden test edilmiş olmal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irden yeni sisteme geçiş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 (dev...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erekli veritabanları yaratılmış ve yüklenilmiş olmal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ersonelin eğitimi tamamlanmış olmal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şamal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 geçiş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istem bölümlere ayrılı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Her bölüm bağımsız olarak yüklen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onuç tatmin ediciyse diğer bölüm yüklenil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ir kaç modülün bulunduğu durumlarda uygulanı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ersonel ve kullanıcının yeni sisteme uyumunda zaman tanır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aralel işleti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ski ve yeni sistem bir süre birlikte işletil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onuç tatmin ediciyse eski sistem terkedil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üyük ve karmaşık sistemlerde uygulanı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ahalı bir yöntemd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ersonelde tedirginlik yaratı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ilot işleti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istem küçük bir şube ya da bölümde kurulu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İşlediği görülürse merkez kütüphaneye (ya da kütüphanenin tamamında) kurulu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u denemeyle personel ve kullanıcının sorun olarak gördüğü yönler düzeltilebili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ni sistemin işletilme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Günlük işletim ve işlem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Yedeklem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azılı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Veri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deklemeyi zorunlu k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lan neden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Virüs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Donanımın bozul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İnsan hat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Yangı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Su baskın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Depre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Saldı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rsonel unsuru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istemin en önemli unsurudu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OTOMATİKLEŞMİŞ SİSTEMİN YÖNETİLMESİNDE: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istem yöneticisi (Sistem Kütüphanecisi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ğ yönetici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ğitim yönetici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estek masası işletmen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ekretery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rsonelin eğitim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eni sisteme ilişkin planlarınızı ve geçiş nedenlerinizi personele aktarını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lanlama komitelerinde her düzeyden personelinizin yeralmasını sağlayını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ersonele yönelik gösteriler düzenleyini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iğer kütüphanelere ziyaretler düzenleyini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Aceleci olmayınız ve geri bildirim için personele zaman tanıyını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0" lang="en-AU" sz="4400" spc="-1" strike="noStrike">
                <a:solidFill>
                  <a:srgbClr val="ffff00"/>
                </a:solidFill>
                <a:latin typeface="Arial Black"/>
              </a:rPr>
              <a:t>istem </a:t>
            </a:r>
            <a:r>
              <a:rPr b="0" lang="tr-TR" sz="4400" spc="-1" strike="noStrike">
                <a:solidFill>
                  <a:srgbClr val="ffff00"/>
                </a:solidFill>
                <a:latin typeface="Arial Black"/>
              </a:rPr>
              <a:t>K</a:t>
            </a:r>
            <a:r>
              <a:rPr b="0" lang="en-AU" sz="4400" spc="-1" strike="noStrike">
                <a:solidFill>
                  <a:srgbClr val="ffff00"/>
                </a:solidFill>
                <a:latin typeface="Arial Black"/>
              </a:rPr>
              <a:t>urulma </a:t>
            </a:r>
            <a:r>
              <a:rPr b="0" lang="tr-TR" sz="4400" spc="-1" strike="noStrike">
                <a:solidFill>
                  <a:srgbClr val="ffff00"/>
                </a:solidFill>
                <a:latin typeface="Arial Black"/>
              </a:rPr>
              <a:t>A</a:t>
            </a:r>
            <a:r>
              <a:rPr b="0" lang="en-AU" sz="4400" spc="-1" strike="noStrike">
                <a:solidFill>
                  <a:srgbClr val="ffff00"/>
                </a:solidFill>
                <a:latin typeface="Arial Black"/>
              </a:rPr>
              <a:t>şamalar</a:t>
            </a:r>
            <a:r>
              <a:rPr b="0" lang="tr-TR" sz="4400" spc="-1" strike="noStrike">
                <a:solidFill>
                  <a:srgbClr val="ffff00"/>
                </a:solidFill>
                <a:latin typeface="Arial Black"/>
              </a:rPr>
              <a:t>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38280"/>
            <a:ext cx="9144000" cy="4419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2286000"/>
            <a:ext cx="2743200" cy="53352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lanlama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4" name=""/>
          <p:cNvSpPr/>
          <p:nvPr/>
        </p:nvSpPr>
        <p:spPr>
          <a:xfrm>
            <a:off x="5486400" y="4038480"/>
            <a:ext cx="3657600" cy="53352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Gerekliliklerin Belirlenmes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943600"/>
            <a:ext cx="2438640" cy="53352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çi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5867280"/>
            <a:ext cx="2743200" cy="53352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Gerçekleştiri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962520"/>
            <a:ext cx="2209680" cy="53316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İşleti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2362320"/>
            <a:ext cx="2743200" cy="53316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Değerlendirm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895480"/>
            <a:ext cx="3200400" cy="1219320"/>
          </a:xfrm>
          <a:prstGeom prst="ellipse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L DÖNGÜ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rsonelin eğitimi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 (dev...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ünlük rutini bozulanlara ve ofislerinden fiziksel yer kaybedenlere anlayışlı olunu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İşlemler, kararlar ve eğitime yönelik planlar hakkında personeli sık sık ve ayrıntılı olarak bilgilendirini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istemi tanıtını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Olası sorunlara hazır olunuz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m ?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arlanın sürülmesi :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Personeli bilgilendirerek zemini hazırlayın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Tarlanın düzlenmesi :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Personeli seçim işlemine dahil edin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Ekim :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Yeni sistemin, çalışma biçimlerini nasıl etkileyeceğini anlatın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Yetiştirme :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Uygun düzeylerde eğitim verin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Sulama :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 Uygun fiziksel ortamı sağlayın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m ?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 (dev...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Bekleme: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Yeni sisteme alışmada süre tanıyın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Yabani otların ayıklanması :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Sistemi değerlendirin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Hasat:</a:t>
            </a: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 Personel ve kullanıcıların yeni sistemin nimetlerinden yararlanması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ullan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 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unsuru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imes New Roman"/>
              </a:rPr>
              <a:t>Kullanıcılar hizmetlerin neler olduğunu bilmelidirler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roşür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erel bir gazete (dergi) de bir makal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Kurum içi bir yayında bir makal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Uygun bir sergide bir stand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österi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lektronik bülten tahtalarında yeralma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istemin değerlendirilme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İstenileni başarıyor mu 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Hız 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Performans 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Ekstralar” gerekiyor mu 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Personel ne diyor 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Kullanıcı ne diyor 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Yazılımın yeni versiyonları 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Donanımdaki gelişmeler 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0" lang="en-AU" sz="4400" spc="-1" strike="noStrike">
                <a:solidFill>
                  <a:srgbClr val="ffff00"/>
                </a:solidFill>
                <a:latin typeface="Arial Black"/>
              </a:rPr>
              <a:t>istem</a:t>
            </a:r>
            <a:r>
              <a:rPr b="0" lang="tr-TR" sz="4400" spc="-1" strike="noStrike">
                <a:solidFill>
                  <a:srgbClr val="ffff00"/>
                </a:solidFill>
                <a:latin typeface="Arial Black"/>
              </a:rPr>
              <a:t> Yönetim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8280"/>
            <a:ext cx="9144000" cy="4419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286000"/>
            <a:ext cx="2743200" cy="53352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Planlama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4038480"/>
            <a:ext cx="3657600" cy="53352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Gerekliliklerin Belirlenmes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5943600"/>
            <a:ext cx="2438640" cy="53352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Seçi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5867280"/>
            <a:ext cx="2743200" cy="53352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Gerçekleştiri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962520"/>
            <a:ext cx="2209680" cy="53316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İşleti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362320"/>
            <a:ext cx="2743200" cy="533160"/>
          </a:xfrm>
          <a:prstGeom prst="rect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Değerlendirm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2895480"/>
            <a:ext cx="3200400" cy="1219320"/>
          </a:xfrm>
          <a:prstGeom prst="ellipse">
            <a:avLst/>
          </a:prstGeom>
          <a:solidFill>
            <a:srgbClr val="ff01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L DÖNGÜ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Tartışma: yerel uygulama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ff00"/>
                </a:solidFill>
                <a:latin typeface="Times New Roman Tur"/>
              </a:rPr>
              <a:t>Elektronik Kütüphanelerin Kurulması ve Yönetimi</a:t>
            </a:r>
            <a:r>
              <a:rPr b="1" lang="en-AU" sz="6000" spc="-1" strike="noStrike">
                <a:solidFill>
                  <a:srgbClr val="ffff00"/>
                </a:solidFill>
                <a:latin typeface="Times New Roman Tur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Mehmet Emin Küçü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kucuk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lurluk 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Ç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şmas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evcut Sistemin Genel Tanım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evcut Sistemin Sorun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Olası Çözüm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Olası Çözümlerin Maliyet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eni Sistemin Getireceği Fayda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Çözüm Seçilmeden Önce Yapılması Gereken Çalışmanın Tanım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lurluk 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Ç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al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şmas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 (dev...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eni Sistemi Gerçekleştirme Zamanı ve Takv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Personele Etki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er Gereksin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Kurumsal Politika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istem 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onksiyon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lirlenme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İŞLETİMSEL GEREKLİLİK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istemin Genel Özellik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odüllerin ayrıntılandırıl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Örn:Erişim noktalarının Belirlenm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eknik Gereklilik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Örn: Mevcut Donanımın Değiştirilm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eklenilen Destek, Bakım ve İzlem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istem 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onksiyon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lirlenmesi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 (dev..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MEVCUT SİSTEMİN AYRINTILANDIRILMA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Örneğin: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Veri Tabanının Hacm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Kullanım Sıklığ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OLMASI GEREKEN ÖZELLİK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Örneğin: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Formatlı ekranları kullanarak çevrimiçi kayıt yaratma, kolay düzeltme, veri transferi v.b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istem 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onksiyon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lirlenmesi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 (dev...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imes New Roman"/>
              </a:rPr>
              <a:t>FAZLADAN (EKSTRA) ÖZELLİK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am Ekran Düzeltm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Otomatik MARC’a dönüştürü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OCR Teknolojisinin Kullanımı v.b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klif 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az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rlama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Hazırlanan Raporun Potansiyel Sistem Sağlayıcılarına Gönderilm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evcut ya da Planlanan Faaliyet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Kontratın İmzalanacağı Takv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Bu İşe Ayrılan Maksimum Bütç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atıcı Tarafından İstenilen Ayrıntı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istemin Teslim Alınacağı Tarih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rçekleştiri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Uzun sürebil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Takvim hafife alınmamalıdır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mkucuk</cp:lastModifiedBy>
  <cp:lastPrinted>2000-03-28T13:47:03Z</cp:lastPrinted>
  <dcterms:modified xsi:type="dcterms:W3CDTF">2000-09-01T12:33:50Z</dcterms:modified>
  <cp:revision>149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