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" name=""/>
          <p:cNvSpPr/>
          <p:nvPr/>
        </p:nvSpPr>
        <p:spPr>
          <a:xfrm>
            <a:off x="-412200" y="6600960"/>
            <a:ext cx="113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chnical"/>
              </a:rPr>
              <a:t>Y.T.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4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Yayıncılık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E-Yayınlarla İlgili Sorunlar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venlik sorunları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gerçeğe uygunluk, bütünlük, tutarlılık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izinleme ve erişim sorunlar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knolojik sorun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konomik sorun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rşivleme sorunlar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lif hakkı sorunlar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E-Yayınlarla İlgili Sorunlar I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ormat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lama sorunla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elge format türleri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HTML, SGML, XML, ASCII, TIFF, GIF, PNG, ODA, RTF, TeX, CGM) </a:t>
            </a:r>
            <a:endParaRPr b="0" lang="en-US" sz="1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ayfa tanımlama formatları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PDF, PS, vd.</a:t>
            </a:r>
            <a:endParaRPr b="0" lang="en-US" sz="1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ayfa düzeni ve içerik formatları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ODA, RTF, LaTeX, SGML, XML, TEI, HTML vd</a:t>
            </a:r>
            <a:endParaRPr b="0" lang="en-US" sz="1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Grafiklerin depolanması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CGM</a:t>
            </a:r>
            <a:endParaRPr b="0" lang="en-US" sz="1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areketli görüntüler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JPEG, MPEG, vd.</a:t>
            </a:r>
            <a:endParaRPr b="0" lang="en-US" sz="1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Üç boyutlu veriler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VRML</a:t>
            </a:r>
            <a:endParaRPr b="0" lang="en-US" sz="1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Standartlaşma</a:t>
            </a:r>
            <a:r>
              <a:rPr b="0" lang="tr-TR" sz="4400" spc="-1" strike="noStrike">
                <a:solidFill>
                  <a:srgbClr val="ffff00"/>
                </a:solidFill>
                <a:latin typeface="Times New Roman Tur"/>
              </a:rPr>
              <a:t> 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Sorunlar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etadata”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DOI, URI, URL, URN, URC, Dublin Core Metadata ögeleri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ibliyografik tanımlama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SBN, SICI, USBC, MARC, SISAC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ğ üzerindeki kaynakların tanımlanması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EI, MARC, ROADS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rama ve erişim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Z39.50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elge sağlama hizmetleri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ISO 10160/1 ILL protokolü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hber hizmetleri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HOIS++, finger, SOLO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konomik Sorunlar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Ekonomik modeller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Bilgi “tecrübi bir meta”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E-yayınların ilk kopya giderleri daha yüksek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Ekstra maliyetler (ağ, sunucu, arşivleme, vs.)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Fiyatlandırma zorluğu 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Satılan ilk kopya = Satılan son kopya??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Teknolojik Sorunlar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ilgi teknolojisi - İçerik bütünleşme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er teknoloji hem bir külfet hem de nimet”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otansiyel pazarın teknoloji sahibi kişi ve kuruluşlarla kısıtlanmak istenmeme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eknolojinin içerikle birlikte satılması (“bohçalama”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elişen depolama, erişim, dizinleme, gösterim ve basım teknolojileri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Bilgi üretmek ve yaymak için kullanılan teknoloji; bu bilgiyi bulmak, süzmek, düzenlemek ve özetlemek için bir yöntem yoksa yararsızdır.”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Güvenlik Sorunları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kopyalamak ve yayın üzerinde değişiklik yapmak kolay (aidiyet, korsan yayıncılık)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bütünlük, otantiklik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bilimsel iletişimin kalitesi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güvenlik önlemleri (sayısal filigranlar, sayısal mühürler, kriptoloji, vs.)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00"/>
                </a:solidFill>
                <a:latin typeface="Arial"/>
              </a:rPr>
              <a:t>Telif Hakları ve Arşivleme Sorunları</a:t>
            </a:r>
            <a:endParaRPr b="0" lang="en-US" sz="48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Telif hakla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asal ve örgütsel sorunla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lif haklarının yönetim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Koruma ve Arşivlem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Kim sorumlu?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rşivleme = Kopyalama; Arşivleme = Erişim?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Geçici-kalıcı arşivlem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knolojinin yenilenmes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00"/>
                </a:solidFill>
                <a:latin typeface="Arial"/>
              </a:rPr>
              <a:t>E-yayıncılık ve Türkiye I</a:t>
            </a:r>
            <a:endParaRPr b="0" lang="en-US" sz="48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ılda yaklaşık 10.000 çeşit kitap basılıyor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3500 civarında süreli yayın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ünlük tirajı 10.000’in üzerinde 30 gazet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aralel yayıncılık yapan birkaç gazete ve dergi v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997’de KB’den CD yayıncılığı için alınan bandrol sayısı 277.050 (12 yayınevi 97 CD)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996’da toplam 25 film çekilmiş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udioteks yapımevi sayısı 175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Videotekst ve teletekst hizmetleri yok (gibi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00"/>
                </a:solidFill>
                <a:latin typeface="Arial"/>
              </a:rPr>
              <a:t>E-yayıncılık ve Türkiye II</a:t>
            </a:r>
            <a:endParaRPr b="0" lang="en-US" sz="48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200 radyo istasyonu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ayısal radyo yayıncılığı henüz yo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ılda 140.000 saat TV yayını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lan adı alan kuruluş sayısı 5000 civarında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00.000 civarında Internet kullanıcı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aralı bilgi sunan Web siteleri çok az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ternet aracılığıyla erişilebilen veri bankası sayısı kısıtlı (toplam bilgi miktarı 1TB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1f22"/>
                </a:solidFill>
                <a:latin typeface="Arial"/>
              </a:rPr>
              <a:t>Kaynak: </a:t>
            </a:r>
            <a:r>
              <a:rPr b="0" i="1" lang="en-AU" sz="1400" spc="-1" strike="noStrike">
                <a:solidFill>
                  <a:srgbClr val="001f22"/>
                </a:solidFill>
                <a:latin typeface="Arial"/>
              </a:rPr>
              <a:t>Türkiye İçerik Üretimi Çalışması (Çalışma Belgesi).</a:t>
            </a:r>
            <a:r>
              <a:rPr b="0" lang="en-AU" sz="1400" spc="-1" strike="noStrike">
                <a:solidFill>
                  <a:srgbClr val="001f22"/>
                </a:solidFill>
                <a:latin typeface="Arial"/>
              </a:rPr>
              <a:t> T.C. Ulaştırma Bakanlığı, Ankara, Ocak 1998. (http://www.tuena.tubitak.gov.tr/</a:t>
            </a:r>
            <a:endParaRPr b="0" lang="en-US" sz="1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Örnek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azete, radyo ve TV sayfalarından örnekler eklenece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Plan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anı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Tarihç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lektronik yayın türler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ektronik yayıncılık ve bilimsel iletişimle ilgili genel sorunl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önelimler: Yeni Olanaklar, Yeni Fırsatlar, Yeni Sorunl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ürkiye’de Elektronik Yayıncılı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onuç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Sonuç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ündemimizde e-yayıncılık pek yo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adece paralel yayıncılı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ternet üzerinden erişilebilir bilgi az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irkaç kitabevinin “Internet şubesi” v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eknoloji henüz yeterince yaygın değil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ilgi/bilgisayar/ağ “okur yazarlığı” sınırl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ncak hazırlıklı olmalıyız: Internet TV hem teknolojinin yaygınlaşmasını hem de ağ okur yazarlık oranını hızla artıraca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1" lang="en-AU" sz="5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Yayıncılık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Tanım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elgeleri”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ektronik ortamlar (CD-ROM’lar, optik diskler, vb. gibi) ve/ya da ağlar (Internet) aracılığıyla erişilebilir hale getirmek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bonelerin çoğuna elektronik ortamda dağıtılan/erişime açılan derlenmiş makaleler paket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Tam metin yayınların bilgisayar depolama ortamları ve/ya da iletişim ağları aracılığıyla dağıtımı ve arşivlenmesi.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Kısa Tarihçe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964: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ilk e-posta iletisi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(MIT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veya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Cambridge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Ünv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’ler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-postanın üniversitede yaygınlaşması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983: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Paralel yayıncılık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(ACS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989: “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oğuk füzyon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kandal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992: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raştırmacıların sadece %7’si ağları bilgi sağlamak ya da yayın yapmak amacıyla kullanı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lektronik dergi sayısı 1991’de 110, 1997’de 3.400 (1000’i hakemli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E-Yayın Tür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-dergi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slı basılı ama elektronik olarak da yayımlanan dergiler (“paralel yayıncılık”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slı elektronik ama az miktarda da basılı yayımlananla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adece elektronik dergile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-bültenler, e-magazinler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Web sayfala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Önbası arşivler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Tartışma listeleri/haber öbekleri arşivler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Yönelimler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ızlı bilgi artış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rgi fiyatlarındaki artış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</a:rPr>
              <a:t>Tetrahedron Letters: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1974 = $200, 1997 = $7176)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1989/90’da ARL kütüphaneleri dergi abonelikleri için 250 MUSD harcamış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polama maliyeti ($24-$41/yıl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anlı” dokümanlar (hipermedya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ternet’te herkes çokluortam (multimedia: radyo-TV + kitap-dergi) yayıncılık yapma olanağına sahip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rişim kolaylığ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ber yayıncılık (e-dergi, e-kitap, “süper kitap”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asılı Kaynakların Artış Hızı (1453-1993)</a:t>
            </a:r>
            <a:endParaRPr b="0" lang="en-US" sz="3600" spc="-1" strike="noStrike">
              <a:solidFill>
                <a:srgbClr val="ffff00"/>
              </a:solidFill>
              <a:latin typeface="Times New Roman Tur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1981080"/>
          <a:ext cx="8077320" cy="4876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81080"/>
                    <a:ext cx="80773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Üretim</a:t>
            </a:r>
            <a:endParaRPr b="0" lang="en-US" sz="4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Dağıtım</a:t>
            </a:r>
            <a:endParaRPr b="0" lang="en-US" sz="4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Paralel yayıncılık (farklı pazarlar)</a:t>
            </a:r>
            <a:endParaRPr b="0" lang="en-US" sz="4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İstek üzerine” yayıncılık</a:t>
            </a:r>
            <a:endParaRPr b="0" lang="en-US" sz="4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00"/>
                </a:solidFill>
                <a:latin typeface="Arial"/>
              </a:rPr>
              <a:t>E-yayıncılık Niçin</a:t>
            </a:r>
            <a:r>
              <a:rPr b="0" lang="tr-TR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5400" spc="-1" strike="noStrike">
                <a:solidFill>
                  <a:srgbClr val="ffff00"/>
                </a:solidFill>
                <a:latin typeface="Arial"/>
              </a:rPr>
              <a:t>Çekici”?</a:t>
            </a:r>
            <a:br>
              <a:rPr sz="4000"/>
            </a:br>
            <a:endParaRPr b="0" lang="en-US" sz="5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E-Yayınlarla İlgili Sorunlar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Resmiyet/Kalıcılık (ciddi bilim için uygun olup olmaması, “suya yazı yazmak”, “duvar yazısı”, “yayın” tanımı, kritik yoğunluk oluşması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alitenin garanti edilmesi (hakemlik kurumu, akademik yükselmeler, prestij vd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ınırlı Bilgi/bilgisayar/ağ okur-yazarlığı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ayıncılar müşterilerini sadece teknoloji sahibi kişilerle/ülkelerle sınırlamak konusunda isteksiz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aralel yayıncılık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a</cp:lastModifiedBy>
  <cp:lastPrinted>2000-03-28T13:47:03Z</cp:lastPrinted>
  <dcterms:modified xsi:type="dcterms:W3CDTF">2000-09-01T10:58:06Z</dcterms:modified>
  <cp:revision>163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