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467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8248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" name=""/>
          <p:cNvSpPr/>
          <p:nvPr/>
        </p:nvSpPr>
        <p:spPr>
          <a:xfrm>
            <a:off x="304920" y="1157400"/>
            <a:ext cx="0" cy="5599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" name=""/>
          <p:cNvSpPr/>
          <p:nvPr/>
        </p:nvSpPr>
        <p:spPr>
          <a:xfrm>
            <a:off x="4896360" y="1440"/>
            <a:ext cx="4247640" cy="8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Elektronik Kütüphanecilik Semineri”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ffffff"/>
                </a:solidFill>
                <a:latin typeface="Arial"/>
              </a:rPr>
              <a:t>4-8 Eylül 2000, Ankara</a:t>
            </a: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Times New Roman Tur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" name=""/>
          <p:cNvSpPr/>
          <p:nvPr/>
        </p:nvSpPr>
        <p:spPr>
          <a:xfrm>
            <a:off x="-412200" y="6600960"/>
            <a:ext cx="1139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chnical"/>
              </a:rPr>
              <a:t>Y.T.</a:t>
            </a:r>
            <a:endParaRPr b="0" lang="en-US" sz="1200" spc="-1" strike="noStrike">
              <a:solidFill>
                <a:srgbClr val="ffffff"/>
              </a:solidFill>
              <a:latin typeface="Times New Roman Tur"/>
            </a:endParaRPr>
          </a:p>
        </p:txBody>
      </p:sp>
      <p:pic>
        <p:nvPicPr>
          <p:cNvPr id="4" name="amblem" descr=""/>
          <p:cNvPicPr/>
          <p:nvPr/>
        </p:nvPicPr>
        <p:blipFill>
          <a:blip r:embed="rId3"/>
          <a:stretch/>
        </p:blipFill>
        <p:spPr>
          <a:xfrm>
            <a:off x="0" y="0"/>
            <a:ext cx="676440" cy="10954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 Tur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Tur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Tur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1143000" indent="-228600">
              <a:spcBef>
                <a:spcPts val="601"/>
              </a:spcBef>
              <a:buClr>
                <a:srgbClr val="ff7f00"/>
              </a:buClr>
              <a:buSzPct val="63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Tur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 Tu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4" marL="2057400" indent="-228600">
              <a:spcBef>
                <a:spcPts val="499"/>
              </a:spcBef>
              <a:buClr>
                <a:srgbClr val="ffff00"/>
              </a:buClr>
              <a:buFont typeface="Times New Roman Tur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oclc.org/oclc/man/9256cat/toc.htm" TargetMode="External"/><Relationship Id="rId3" Type="http://schemas.openxmlformats.org/officeDocument/2006/relationships/hyperlink" Target="http://www.oclc.org/oclc/man/9256cat/toc.htm" TargetMode="External"/><Relationship Id="rId4" Type="http://schemas.openxmlformats.org/officeDocument/2006/relationships/hyperlink" Target="http://www.oclc.org/oclc/man/9256cat/toc.htm" TargetMode="External"/><Relationship Id="rId5" Type="http://schemas.openxmlformats.org/officeDocument/2006/relationships/hyperlink" Target="http://www.oclc.org/oclc/man/9256cat/toc.htm" TargetMode="External"/><Relationship Id="rId6" Type="http://schemas.openxmlformats.org/officeDocument/2006/relationships/hyperlink" Target="http://www.oclc.org/oclc/man/9256cat/toc.htm" TargetMode="External"/><Relationship Id="rId7" Type="http://schemas.openxmlformats.org/officeDocument/2006/relationships/hyperlink" Target="http://www.oclc.org/oclc/man/9256cat/toc.htm" TargetMode="External"/><Relationship Id="rId8" Type="http://schemas.openxmlformats.org/officeDocument/2006/relationships/hyperlink" Target="http://www.oclc.org/oclc/man/9256cat/toc.htm" TargetMode="External"/><Relationship Id="rId9" Type="http://schemas.openxmlformats.org/officeDocument/2006/relationships/hyperlink" Target="http://www.oclc.org/oclc/man/9256cat/toc.htm" TargetMode="External"/><Relationship Id="rId10" Type="http://schemas.openxmlformats.org/officeDocument/2006/relationships/hyperlink" Target="file:///D:/document/library/catalog/manual.txt" TargetMode="External"/><Relationship Id="rId11" Type="http://schemas.openxmlformats.org/officeDocument/2006/relationships/hyperlink" Target="file:///D:/document/library/catalog/manual.txt" TargetMode="External"/><Relationship Id="rId12" Type="http://schemas.openxmlformats.org/officeDocument/2006/relationships/hyperlink" Target="file:///D:/document/library/catalog/manual.txt" TargetMode="External"/><Relationship Id="rId13" Type="http://schemas.openxmlformats.org/officeDocument/2006/relationships/hyperlink" Target="http://www.ukoln.ac.uk/metadata/desire/quality/" TargetMode="External"/><Relationship Id="rId14" Type="http://schemas.openxmlformats.org/officeDocument/2006/relationships/hyperlink" Target="http://www.ukoln.ac.uk/metadata/desire/quality/" TargetMode="External"/><Relationship Id="rId15" Type="http://schemas.openxmlformats.org/officeDocument/2006/relationships/hyperlink" Target="http://www.ukoln.ac.uk/metadata/desire/quality/" TargetMode="External"/><Relationship Id="rId16" Type="http://schemas.openxmlformats.org/officeDocument/2006/relationships/hyperlink" Target="http://www.ukoln.ac.uk/metadata/desire/quality/" TargetMode="External"/><Relationship Id="rId17" Type="http://schemas.openxmlformats.org/officeDocument/2006/relationships/hyperlink" Target="http://www.ukoln.ac.uk/metadata/desire/quality/" TargetMode="External"/><Relationship Id="rId18" Type="http://schemas.openxmlformats.org/officeDocument/2006/relationships/hyperlink" Target="file:///D:/document/library/catalog/qual01.pdf" TargetMode="External"/><Relationship Id="rId19" Type="http://schemas.openxmlformats.org/officeDocument/2006/relationships/hyperlink" Target="file:///D:/document/library/catalog/qual01.pdf" TargetMode="External"/><Relationship Id="rId20" Type="http://schemas.openxmlformats.org/officeDocument/2006/relationships/hyperlink" Target="file:///D:/document/library/catalog/qual01.pdf" TargetMode="External"/><Relationship Id="rId21" Type="http://schemas.openxmlformats.org/officeDocument/2006/relationships/hyperlink" Target="file:///D:/document/library/catalog/qual01.pdf" TargetMode="External"/><Relationship Id="rId22" Type="http://schemas.openxmlformats.org/officeDocument/2006/relationships/hyperlink" Target="http://sunsite.berkeley.edu/Admin/collection.html" TargetMode="External"/><Relationship Id="rId23" Type="http://schemas.openxmlformats.org/officeDocument/2006/relationships/hyperlink" Target="http://sunsite.berkeley.edu/Admin/collection.html" TargetMode="External"/><Relationship Id="rId24" Type="http://schemas.openxmlformats.org/officeDocument/2006/relationships/hyperlink" Target="http://www.library.ucb.edu/istl/98-winter/article2.html" TargetMode="External"/><Relationship Id="rId25" Type="http://schemas.openxmlformats.org/officeDocument/2006/relationships/hyperlink" Target="http://www.library.yale.edu/consortia/statement.html" TargetMode="External"/><Relationship Id="rId26" Type="http://schemas.openxmlformats.org/officeDocument/2006/relationships/hyperlink" Target="http://www.jisc.ac.uk/cei/dner_colpol.html" TargetMode="External"/><Relationship Id="rId2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2057040"/>
            <a:ext cx="87627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ff00"/>
                </a:solidFill>
                <a:latin typeface="Arial"/>
              </a:rPr>
              <a:t>Elektronik Derme Yönetimi</a:t>
            </a:r>
            <a:endParaRPr b="0" lang="en-US" sz="6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7760" y="5029200"/>
            <a:ext cx="609444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ffffff"/>
                </a:solidFill>
                <a:latin typeface="Arial"/>
              </a:rPr>
              <a:t>Yaşar Tonta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.Ü. Kütüphanecilik Bölümü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tonta@hacettepe.edu.tr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ttp://yunus.hacettepe.edu.tr/~tonta/tonta.htm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odeller I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atıcılardan derme sağlama. Lisans gerekli. Derme yönetiminde kütüphane ile satıcı ortak sorumluluk yüklenirler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Ortak lisans anlaşmaları yoluyla ortaklaşa derme geliştirme.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"Sanal-raflar" (cyberstacks). Kütüphane Internet kaynaklarını kataloğa ekler, bunları "sanal raflar" halinde düzenler, kaynakların tam metinlerine erişim sağla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281160" indent="-28116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Kaynak: McClure</a:t>
            </a: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  <a:p>
            <a:pPr marL="281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Elektronik Kaynak Seçim Ölçütler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Ağ aracılığıyla erişilebilirlik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Kullanım kolaylığı (kullanıcı arabirimi kalitesi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Erişim sisteminin gücü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Donanım/yazılım uyuşması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Hizmet için gerekenler (eğitim vs.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Gerçek/potansiyel kullanım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Uzaktan erişilebilirlik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Özgün kopyaya uygunluk (grafik, formül vs.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Lisans koşulları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atıcının güvenilirliğ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elgeleme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Öneriler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Güncel içerik gereksinimleriyle elektronik formatlara duyulan gereksinim dengelenmeli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z sayıda kullanıcı yerine çok sayıda kullanıcıya yardımcı olmak hedeflenmeli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Kritik yoğunluk olan alanlarda derme geliştirilmeli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lektronik dergilerin basılı dergilerden daha iyi ve kullanımının daha kolay olma şartı aranmalı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Platform ya da yazılım-bağımlı elektronik dergiler reddedilmeli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277560" indent="-2775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Yayıncıların kütüphanecilere yüklemek istedikleri kullanıcı davranışları ve pazar analizi için veri toplama gibi koşulların çoğu reddedilmeli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277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277560" indent="-277560">
              <a:lnSpc>
                <a:spcPct val="100000"/>
              </a:lnSpc>
              <a:spcBef>
                <a:spcPts val="3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Kaynak: Albright, 1997: 270-271.</a:t>
            </a:r>
            <a:endParaRPr b="0" lang="en-US" sz="1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Daha Fazla Bilgi İçin 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Nancy Olson, ed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oguing Internet Resources: A Manual and Practical Guide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3ecf7"/>
                </a:solidFill>
                <a:uFillTx/>
                <a:latin typeface="Arial"/>
                <a:hlinkClick r:id="rId2"/>
              </a:rPr>
              <a:t>http://www.</a:t>
            </a:r>
            <a:r>
              <a:rPr b="0" lang="en-US" sz="1800" spc="-1" strike="noStrike" u="sng">
                <a:solidFill>
                  <a:srgbClr val="63ecf7"/>
                </a:solidFill>
                <a:uFillTx/>
                <a:latin typeface="Arial"/>
                <a:hlinkClick r:id="rId3"/>
              </a:rPr>
              <a:t>oclc</a:t>
            </a:r>
            <a:r>
              <a:rPr b="0" lang="en-US" sz="1800" spc="-1" strike="noStrike" u="sng">
                <a:solidFill>
                  <a:srgbClr val="63ecf7"/>
                </a:solidFill>
                <a:uFillTx/>
                <a:latin typeface="Arial"/>
                <a:hlinkClick r:id="rId4"/>
              </a:rPr>
              <a:t>.org/</a:t>
            </a:r>
            <a:r>
              <a:rPr b="0" lang="en-US" sz="1800" spc="-1" strike="noStrike" u="sng">
                <a:solidFill>
                  <a:srgbClr val="63ecf7"/>
                </a:solidFill>
                <a:uFillTx/>
                <a:latin typeface="Arial"/>
                <a:hlinkClick r:id="rId5"/>
              </a:rPr>
              <a:t>oclc</a:t>
            </a:r>
            <a:r>
              <a:rPr b="0" lang="en-US" sz="1800" spc="-1" strike="noStrike" u="sng">
                <a:solidFill>
                  <a:srgbClr val="63ecf7"/>
                </a:solidFill>
                <a:uFillTx/>
                <a:latin typeface="Arial"/>
                <a:hlinkClick r:id="rId6"/>
              </a:rPr>
              <a:t>/man/9256cat/</a:t>
            </a:r>
            <a:r>
              <a:rPr b="0" lang="en-US" sz="1800" spc="-1" strike="noStrike" u="sng">
                <a:solidFill>
                  <a:srgbClr val="63ecf7"/>
                </a:solidFill>
                <a:uFillTx/>
                <a:latin typeface="Arial"/>
                <a:hlinkClick r:id="rId7"/>
              </a:rPr>
              <a:t>toc</a:t>
            </a:r>
            <a:r>
              <a:rPr b="0" lang="en-US" sz="1800" spc="-1" strike="noStrike" u="sng">
                <a:solidFill>
                  <a:srgbClr val="63ecf7"/>
                </a:solidFill>
                <a:uFillTx/>
                <a:latin typeface="Arial"/>
                <a:hlinkClick r:id="rId8"/>
              </a:rPr>
              <a:t>.</a:t>
            </a:r>
            <a:r>
              <a:rPr b="0" lang="en-US" sz="1800" spc="-1" strike="noStrike" u="sng">
                <a:solidFill>
                  <a:srgbClr val="63ecf7"/>
                </a:solidFill>
                <a:uFillTx/>
                <a:latin typeface="Arial"/>
                <a:hlinkClick r:id="rId9"/>
              </a:rPr>
              <a:t>ht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3ecf7"/>
                </a:solidFill>
                <a:uFillTx/>
                <a:latin typeface="Arial"/>
                <a:hlinkClick r:id="rId10"/>
              </a:rPr>
              <a:t>http://www.</a:t>
            </a:r>
            <a:r>
              <a:rPr b="0" lang="en-US" sz="1800" spc="-1" strike="noStrike" u="sng">
                <a:solidFill>
                  <a:srgbClr val="63ecf7"/>
                </a:solidFill>
                <a:uFillTx/>
                <a:latin typeface="Arial"/>
                <a:hlinkClick r:id="rId11"/>
              </a:rPr>
              <a:t>ifla</a:t>
            </a:r>
            <a:r>
              <a:rPr b="0" lang="en-US" sz="1800" spc="-1" strike="noStrike" u="sng">
                <a:solidFill>
                  <a:srgbClr val="63ecf7"/>
                </a:solidFill>
                <a:uFillTx/>
                <a:latin typeface="Arial"/>
                <a:hlinkClick r:id="rId12"/>
              </a:rPr>
              <a:t>.org/documents/libraries/cataloging/manual.tx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fman, Paul and Worsfeld, Emma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lection Criteria for Quality Controlled Information Gateway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3ecf7"/>
                </a:solidFill>
                <a:uFillTx/>
                <a:latin typeface="Arial"/>
                <a:hlinkClick r:id="rId13"/>
              </a:rPr>
              <a:t>http://www.</a:t>
            </a:r>
            <a:r>
              <a:rPr b="0" lang="en-US" sz="1800" spc="-1" strike="noStrike" u="sng">
                <a:solidFill>
                  <a:srgbClr val="63ecf7"/>
                </a:solidFill>
                <a:uFillTx/>
                <a:latin typeface="Arial"/>
                <a:hlinkClick r:id="rId14"/>
              </a:rPr>
              <a:t>ukoln</a:t>
            </a:r>
            <a:r>
              <a:rPr b="0" lang="en-US" sz="1800" spc="-1" strike="noStrike" u="sng">
                <a:solidFill>
                  <a:srgbClr val="63ecf7"/>
                </a:solidFill>
                <a:uFillTx/>
                <a:latin typeface="Arial"/>
                <a:hlinkClick r:id="rId15"/>
              </a:rPr>
              <a:t>.ac.</a:t>
            </a:r>
            <a:r>
              <a:rPr b="0" lang="en-US" sz="1800" spc="-1" strike="noStrike" u="sng">
                <a:solidFill>
                  <a:srgbClr val="63ecf7"/>
                </a:solidFill>
                <a:uFillTx/>
                <a:latin typeface="Arial"/>
                <a:hlinkClick r:id="rId16"/>
              </a:rPr>
              <a:t>uk</a:t>
            </a:r>
            <a:r>
              <a:rPr b="0" lang="en-US" sz="1800" spc="-1" strike="noStrike" u="sng">
                <a:solidFill>
                  <a:srgbClr val="63ecf7"/>
                </a:solidFill>
                <a:uFillTx/>
                <a:latin typeface="Arial"/>
                <a:hlinkClick r:id="rId17"/>
              </a:rPr>
              <a:t>/metadata/desire/quality/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3ecf7"/>
                </a:solidFill>
                <a:uFillTx/>
                <a:latin typeface="Arial"/>
                <a:hlinkClick r:id="rId18"/>
              </a:rPr>
              <a:t>http://www.</a:t>
            </a:r>
            <a:r>
              <a:rPr b="0" lang="en-US" sz="1800" spc="-1" strike="noStrike" u="sng">
                <a:solidFill>
                  <a:srgbClr val="63ecf7"/>
                </a:solidFill>
                <a:uFillTx/>
                <a:latin typeface="Arial"/>
                <a:hlinkClick r:id="rId19"/>
              </a:rPr>
              <a:t>ifla</a:t>
            </a:r>
            <a:r>
              <a:rPr b="0" lang="en-US" sz="1800" spc="-1" strike="noStrike" u="sng">
                <a:solidFill>
                  <a:srgbClr val="63ecf7"/>
                </a:solidFill>
                <a:uFillTx/>
                <a:latin typeface="Arial"/>
                <a:hlinkClick r:id="rId20"/>
              </a:rPr>
              <a:t>.org/documents/libraries/cataloging/quality01.</a:t>
            </a:r>
            <a:r>
              <a:rPr b="0" lang="en-US" sz="1800" spc="-1" strike="noStrike" u="sng">
                <a:solidFill>
                  <a:srgbClr val="63ecf7"/>
                </a:solidFill>
                <a:uFillTx/>
                <a:latin typeface="Arial"/>
                <a:hlinkClick r:id="rId21"/>
              </a:rPr>
              <a:t>pd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Digital Library SunSITE Collection and Preservation Policy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63ecf7"/>
                </a:solidFill>
                <a:uFillTx/>
                <a:latin typeface="Arial"/>
                <a:hlinkClick r:id="rId22"/>
              </a:rPr>
              <a:t>http://sunsite.berkeley.edu/Admin/collection.</a:t>
            </a:r>
            <a:r>
              <a:rPr b="0" lang="tr-TR" sz="1800" spc="-1" strike="noStrike" u="sng">
                <a:solidFill>
                  <a:srgbClr val="63ecf7"/>
                </a:solidFill>
                <a:uFillTx/>
                <a:latin typeface="Arial"/>
                <a:hlinkClick r:id="rId23"/>
              </a:rPr>
              <a:t>html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uilding the Collections of the California Digital Library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63ecf7"/>
                </a:solidFill>
                <a:uFillTx/>
                <a:latin typeface="Arial"/>
                <a:hlinkClick r:id="rId24"/>
              </a:rPr>
              <a:t>http://www.library.ucb.edu/istl/98-winter/article2.html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Int’l Coalition of Library Consortia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63ecf7"/>
                </a:solidFill>
                <a:uFillTx/>
                <a:latin typeface="Arial"/>
                <a:hlinkClick r:id="rId25"/>
              </a:rPr>
              <a:t>http://www.library.yale.edu/consortia/statement.html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Distributed National Electronic Resource Collection development Policy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 u="sng">
                <a:solidFill>
                  <a:srgbClr val="63ecf7"/>
                </a:solidFill>
                <a:uFillTx/>
                <a:latin typeface="Arial"/>
                <a:hlinkClick r:id="rId26"/>
              </a:rPr>
              <a:t>http://www.jisc.ac.uk/cei/dner_colpol.htm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2057040"/>
            <a:ext cx="87627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r>
              <a:rPr b="1" lang="en-AU" sz="5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AU" sz="6000" spc="-1" strike="noStrike">
                <a:solidFill>
                  <a:srgbClr val="ffff00"/>
                </a:solidFill>
                <a:latin typeface="Arial"/>
              </a:rPr>
              <a:t>Elektronik Derme Yönetimi</a:t>
            </a:r>
            <a:endParaRPr b="0" lang="en-US" sz="6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047760" y="5029200"/>
            <a:ext cx="609444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ffffff"/>
                </a:solidFill>
                <a:latin typeface="Arial"/>
              </a:rPr>
              <a:t>Yaşar Tonta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.Ü. Kütüphanecilik Bölümü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tonta@hacettepe.edu.tr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ttp://yunus.hacettepe.edu.tr/~tonta/tonta.htm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Derme Yönetim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Elektronik bilgi kaynaklarının seçimi, düzenlenmesi, sağlanması (satın alma, kiralama, vd.), kullanıma sunulması, değerlendirilmesi, vs. </a:t>
            </a:r>
            <a:endParaRPr b="0" lang="en-US" sz="36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Erişim - Sahip Olma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ahip olmak önemli. Çünkü erişim garanti. </a:t>
            </a:r>
            <a:r>
              <a:rPr b="0" lang="en-AU" sz="3200" spc="-1" strike="noStrike">
                <a:solidFill>
                  <a:srgbClr val="63ecf7"/>
                </a:solidFill>
                <a:latin typeface="Arial"/>
              </a:rPr>
              <a:t>Sahip olmak = Erişmek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rişebilmek önemli. Çünkü sahip olmak kadar değerli.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63ecf7"/>
                </a:solidFill>
                <a:latin typeface="Arial"/>
              </a:rPr>
              <a:t>Erişmek = Hemen hemen sahip olmak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lektronik kaynaklar için derme geliştirme sadece kendi sahip olduğunuz, yaşattığınız, arşivlediğiniz kaynaklarla sınırlı değil. Derme geliştirmeye yeni bir gözle bakmak gerekli.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Sahip Olunan/Erişilen </a:t>
            </a:r>
            <a:br>
              <a:rPr sz="4400"/>
            </a:b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Derme Türler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Arşivlenen: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Kütüphanenin sahip olduğu, yaşattığı ve arşivlediği ve sürekli olarak erişime açık tutmayı planladığı elektronik bilgi kaynakları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Hizmete sunulan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Kütüphanenin sahip olduğu, ancak sürekli olarak arşivleme konusunda henüz karar vermediği kaynaklar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Yansılanan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Yaratılmasından ve arşivlenmesinden başka kuruluşların sorumlu olduğu ancak kütüphanenin yansıladığı kaynaklar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Bağlantı yapılan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Kütüphanenin sadece bağlantı (link) yaptığı başka kuruluşların makinelerindeki kaynaklar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90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90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Derme Yönetim Stratejileri 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arklı türlere göre farklı derme yönetim stratejiler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eçim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ağlama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ütçeleme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ff7f00"/>
              </a:buClr>
              <a:buSzPct val="63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atın alma/abone olma/kiralama/konsorsiyum aracılığıyla lisans alma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T alt yapısı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rişim yönetimi (otantikasyon ve yetkilendirme)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Derme Yönetim Stratejileri I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unum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Kullanıcı arabirimleri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elif hakkı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Koruma ve arşivleme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Kaynak paylaşımı (kütüphanelerarası ödünç verme, belge sağlama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ğitim/destek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eğerlendirme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Elektronik Derme Yönetimini Etkileyen Faktörler 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Kısa dönemli planlama (kaynaklar ve teknoloji hızla değişiyor)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Kaynaklar kalıcı değil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Yazar sorumluluğu ve saygınlığını belirlemede güçlük 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Kaynakları erişime açmak için yapılması gereken olası değişiklikler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Bazı kaynaklar etkileşimli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Elektronik Derme Yönetimini Etkileyen Faktörler I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Kaynak seçim ölçütleri evrimleşiyor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erme yaşatmada belirsizlik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rşivlemeyle ilgili güçlük ya da kısıtlamala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ilinmeyen telif hakkı yasaları uygulaması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Güvenliğin garanti edilmesindeki güçlükler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rişim için bilgisayar teknolojisi ve teknik desteğe ihtiyaç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ersonel ihtiyacı daha kapsamlı ve karmaşık 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rtaklaşa fon bulmada yeni modeller gerekli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odeller I 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lektronik bilgi kaynaklarını görmezden gelme; sorumluluk almama; olanaksız görme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Kütüphanenin web sayfasından bazı kataloglara (esas bilgilere değil) bağlantılar verme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ternet kaynaklarını çevrimiçi kataloğa ekleme (Kaynak keşfetme, seçme, bağlantı sağlama, URL’leri güncel tutma kütüphanenin sorumluluğunda)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5T08:37:45Z</dcterms:created>
  <dc:creator>asd</dc:creator>
  <dc:description/>
  <dc:language>en-US</dc:language>
  <cp:lastModifiedBy>a</cp:lastModifiedBy>
  <cp:lastPrinted>2000-03-28T13:47:03Z</cp:lastPrinted>
  <dcterms:modified xsi:type="dcterms:W3CDTF">2000-09-01T08:32:42Z</dcterms:modified>
  <cp:revision>165</cp:revision>
  <dc:subject/>
  <dc:title>Elektronik Yayıncılık ve Bilimsel İletişim: Teknoloji, Ekonomi ve Arşivleme ile İlgili Sorunlar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yunus.hacettepe.edu.tr/~tonta/tonta.html</vt:lpwstr>
  </property>
  <property fmtid="{D5CDD505-2E9C-101B-9397-08002B2CF9AE}" pid="9" name="LinkColor">
    <vt:r8>16711782</vt:r8>
  </property>
  <property fmtid="{D5CDD505-2E9C-101B-9397-08002B2CF9AE}" pid="10" name="MailAddress">
    <vt:lpwstr>tonta@hacettepe.edu.tr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mydocum\SUNUSLAR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