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71360" y="717120"/>
            <a:ext cx="471636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84760" y="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2" name=""/>
          <p:cNvSpPr/>
          <p:nvPr/>
        </p:nvSpPr>
        <p:spPr>
          <a:xfrm>
            <a:off x="3884760" y="899640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 Tur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899640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4560" cy="3537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84760" y="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2" name=""/>
          <p:cNvSpPr/>
          <p:nvPr/>
        </p:nvSpPr>
        <p:spPr>
          <a:xfrm>
            <a:off x="3884760" y="899640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 Tur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899640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5" name=""/>
          <p:cNvSpPr/>
          <p:nvPr/>
        </p:nvSpPr>
        <p:spPr>
          <a:xfrm>
            <a:off x="3884760" y="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8996400"/>
            <a:ext cx="29732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52400"/>
                <a:tab algn="l" pos="1504800"/>
                <a:tab algn="l" pos="2257560"/>
                <a:tab algn="l" pos="3009960"/>
                <a:tab algn="l" pos="3762360"/>
                <a:tab algn="l" pos="4514760"/>
                <a:tab algn="l" pos="5267160"/>
                <a:tab algn="l" pos="6019920"/>
                <a:tab algn="l" pos="6772320"/>
                <a:tab algn="l" pos="7524720"/>
                <a:tab algn="l" pos="8277120"/>
                <a:tab algn="l" pos="9029880"/>
                <a:tab algn="l" pos="9782280"/>
                <a:tab algn="l" pos="105346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 Tur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899640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2971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Abonelik, lisans anlaşmaları, “parça başı” ödeme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Sahip olunan, yaşatılan ve arşivlenen bilgi kaynakları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Sahip olunan, ancak başkaları tarafından yaşatılan ve arşivlenen bilgi kaynakları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 Tur"/>
              </a:rPr>
              <a:t>Sahip olunmayan ancak uzaktan erişim olanağı bulunan ve başkaları tarafından yaşatılan ve arşivlenen bilgi kaynakları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4560" cy="3537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galileo.gsu.edu/" TargetMode="External"/><Relationship Id="rId3" Type="http://schemas.openxmlformats.org/officeDocument/2006/relationships/hyperlink" Target="http://galileo.gsu.edu/" TargetMode="External"/><Relationship Id="rId4" Type="http://schemas.openxmlformats.org/officeDocument/2006/relationships/hyperlink" Target="http://galileo.gsu.edu/" TargetMode="External"/><Relationship Id="rId5" Type="http://schemas.openxmlformats.org/officeDocument/2006/relationships/hyperlink" Target="http://galileo.gsu.edu/" TargetMode="External"/><Relationship Id="rId6" Type="http://schemas.openxmlformats.org/officeDocument/2006/relationships/hyperlink" Target="http://galileo.gsu.edu/" TargetMode="External"/><Relationship Id="rId7" Type="http://schemas.openxmlformats.org/officeDocument/2006/relationships/hyperlink" Target="http://galileo.gsu.edu/" TargetMode="External"/><Relationship Id="rId8" Type="http://schemas.openxmlformats.org/officeDocument/2006/relationships/hyperlink" Target="http://galileo.gsu.edu/" TargetMode="External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ore.net/" TargetMode="External"/><Relationship Id="rId3" Type="http://schemas.openxmlformats.org/officeDocument/2006/relationships/hyperlink" Target="http://www.more.net/" TargetMode="External"/><Relationship Id="rId4" Type="http://schemas.openxmlformats.org/officeDocument/2006/relationships/hyperlink" Target="http://www.more.net/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jstor.org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ffff00"/>
                </a:solidFill>
                <a:latin typeface="Arial"/>
              </a:rPr>
              <a:t>Elektronik Bilgi Kaynaklarının Sağlanmasında ve Kullanımında İşbirliği ve Konsorsiyumlar</a:t>
            </a:r>
            <a:endParaRPr b="0" lang="en-US" sz="5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SI Örneğ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790640"/>
          <a:ext cx="7620120" cy="4953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790640"/>
                    <a:ext cx="762012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0680" y="761760"/>
            <a:ext cx="67071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onsorsiyu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nım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rden fazla kuruluşun bir araya gelerek oluşturdukları tüzel kişiliğe sahip ortaklı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aç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taklaşa koleksiyon geliştirme, elektronik kaynaklara erişim saðğama, belge sağlama vd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el işlevleri: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ziksel kaynakları paylaşmak (toplu kataloglar, kütüphaneler arası ö.v., kurye servis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ve Web’e bağlantı sağlama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lektronik bilgi kaynaklarına erişmek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1142640"/>
            <a:ext cx="693432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ALILEO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3"/>
              </a:rPr>
              <a:t>galileo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5"/>
              </a:rPr>
              <a:t>gsu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6"/>
              </a:rPr>
              <a:t>.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7"/>
              </a:rPr>
              <a:t>edu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8"/>
              </a:rPr>
              <a:t>/</a:t>
            </a:r>
            <a:r>
              <a:rPr b="0" lang="en-A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uruluşu 1995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eachNet: Georgia’nın eğitim amaçlı iletişim ağ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Üyeler: Tüm Georgia eyaleti mensuplarına açık. 34 kamu üniversitesi birimi, 33 teknik enstitü, 57 halk kütüphanesi, 37 özel üniversite ve kolej, ilk ve ortaokul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$10M ile başlangıç giderleri (paranın bir kısmı eyalet lotosundan geliyor). Yıllık $2M işletme giderleri için harcanıyor.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24 veri tabanı: AP, EB, ASFA, MEDLINE, CC, AGRICOLA, ContentsFirst, EBSCO Master File, INSPEC, MLA, PAIS, ERIC, ABI, DA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MOREne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"/>
              </a:rPr>
              <a:t>.more.net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uruluşu: 1990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isyonu: Eğitim, araştırma, kamu hizmeti, ekonomik gelişme ve yönetim için üyelerine ve müşterilerine ortaklaşa “ağlaşmış” bilgi hizmetleri sağlamak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issouri eyaletindeki üniversite ve halk kütüphaneleri ve diğer okullar üye (74); ticari firmalar da üye olabilir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Üyelik: Tek tip; her üyenin oy hakkı var.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500 öğrenciden az okullar: 4000 USD/yıl, 1500-5000 öğrenci: 7000 USD, 5000’den fazla öğrenci: 11000 USD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BSCOHost ve diğer veri tabanları hizmete açık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JSTOR: Journal Storage Onlin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ff01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ww.jstor.or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ndrew Mellon Vakfı (kar amacı gütmüyor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200 civarında sosyal ve insani bilimler dergisinin tam metinleri (eski sayılar dahil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r sorununum çözmeyi de amaçl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Üyelik ücreti akademik kuruluşların büyüklüğüne göre (büyük, orta, küçük ve çok küçük) sınıflanmış (Carnegie Classification). Bir kerelik veri tabanı geliştirme ücreti ($40K-$10K) ve yıllık erişim ücreti ($5K-$2K) alınıyor.</a:t>
            </a:r>
            <a:r>
              <a:rPr b="0" lang="en-AU" sz="2800" spc="-1" strike="noStrike">
                <a:solidFill>
                  <a:srgbClr val="ffffff"/>
                </a:solidFill>
                <a:latin typeface="Turkish 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Konsorsiyum Kurma Aşamaları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1920" y="2057400"/>
            <a:ext cx="84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iyet belirtil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sal prosedürün belirlen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Örgütsel yapı ve yönetimin işleyişinin belirlenmes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şlangıç/işletme maliyetlerinin nasıl karşılanacağının kararlaştırılması 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onsorsiyum tüzel kişiliğinin kurul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omitelerin kurulması (ağ hizmetleri, kullanıcı uygulamaları, standartlar, elektronik bilgi hizmetleri, eğitim ve danışmanlık, 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isans anlaşmalarının yapılması ve yenilenmesi 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ürkiye’de Konsorsiyum Kurma Çalışmaları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AKBİM’in girişimleri ve ilk testler (IDEAL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ktronik Bilgi Kaynaklarının Kullanımında İşbirliği” Toplantısı (14 Kasım 1997, Ankara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uç Bildirge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üm üniversitelerin ULAKNET aracılığıyla temel bilgi hizmetlerine (veri tabanları, e-dergiler, e-belge sağlama) erişmeleri için gereken teknik, finansal ve idari olurluk çalışmalarının ULAKBİM eşgüdümünde yapıl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1920" y="609120"/>
            <a:ext cx="872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ürkiye’de Konsorsiyum Kurma Çalışmaları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sorsiyumun başlangıç giderleri: 8-10 milyon USD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şletme giderleri: 2-3 milyon USD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sorsiyum taslak yönetmeliğinin UBİM Danışma Kurulunda tartışılması (1998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DES denemeleri (1999) (WoS, SP veri tabanları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KOS (1999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ANKOS: Anadolu Üniversite Kütüphaneleri Konsorsiyumu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2209320"/>
            <a:ext cx="8373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9’da kuruldu; resmi kuruluş yönetmeliği yok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LAKBİM dahil 13 üyesi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azı konsorsiyal anlaşmalar yapıldı: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cademic Press’in IDEAL (ULAKBİM, Bilkent, Gazi, Hacettepe, ODTÜ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bsco’nun Academic Search Elite ve Business Source Premier (B, M, Dokuz Eylül, Koç, Sabancı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MS’nin MathSciNet (M, B, Bosphorus, Çukurova, H, ITU, S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SI’nin Web of Science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761760"/>
            <a:ext cx="8440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run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03440" y="1828440"/>
            <a:ext cx="8440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gi kaynaklarının daha verimli kullanılmasına yönelik politikalar geliştirmek için birlikte çalışmak ve ortak projeler üretme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nmışlık, karşılıklı anlayış, uzlaşma ve sabı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lama ve örgütlenme becerisi (“ortak akıl”)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önetim bilgi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ynak (para ve insangücü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sap ver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man yönetim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İşbirliği: Tanım ve Amaç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İşbirliği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“iki ya da daha fazla kütüphanenin kendi kullanıcılarına daha gelişmiş hizmet vermek için birlikte çalışmaları”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maç: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daha kaliteli, daha hızlı, daha ekonomik bilgi hizmeti vermek ve ölçek ekonomisinden yararlanma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Uygulamalar: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rtaklaşa derme geliştirme ve kataloglama,, ortaklaşa bilgi hizmeti verme (e- belge sağlama/referans hizmetleri), vd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371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5000" spc="-1" strike="noStrike">
                <a:solidFill>
                  <a:srgbClr val="ffff00"/>
                </a:solidFill>
                <a:latin typeface="Arial"/>
              </a:rPr>
              <a:t>Elektronik Bilgi Kaynaklarının Sağlanmasında ve Kullanımında İşbirliği ve Konsorsiyumlar</a:t>
            </a:r>
            <a:endParaRPr b="0" lang="en-US" sz="5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352320" y="4800600"/>
            <a:ext cx="57898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06533 Beytepe, Ankara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un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den İşbirliği?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lgi ulusal bir kayn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alkınmanın kan damarı”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ararlı bilgilere en kısa sürede erişim ulusal ve uluslararası “rekabet edebilirliğin” ön koşulu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yleyse bilginin üretimi, sağlanması, düzenlenmesi, kullanıma sunulması ve bilgiye erişim de ulusal bir sorun olarak ele alınmal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den İşbirliği?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lgi hizmeti sağlamanın maliyeti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yat artış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ütçelerin yetersizliğ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ni yaklaşımlar 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hip olma=eriş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işim=sahip olma?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eni fırsatlar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ğ aracılığıyla bilgi hizmetleri sağla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şbirliği ve eşgüdüm kolaylığ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Fiyat Artış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rgi fiyatları artı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etrahedron Letter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74 = $200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97 = $7176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36 katlık artış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986-1996’da 121 büyük üniversite kütüphanesinin dergi satın alma bütçeleri %124 artmasına karşın dergi sayısı %7 azalmış 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polama giderleri artı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r kitabı rafta tutmanın maliyeti $16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Üniversite Kütüphanelerimiz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meler yetersi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lam 5M kitap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üreli yayın sayısı az (üçte birinde 500’den az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ütçeler yetersiz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lam 4.7 trilyon lira (1999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alama 91 milyar lira (en düşük:16 milyar lira- en yüksek: 474 milyar lira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ütüphane bütçesinin toplam üniversite bütçesine oranı: %0,7 (en düşük: %0,2; en yüksek. %3,8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halı Dergilerin İkilenmesi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76520"/>
          <a:ext cx="8210520" cy="518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8210520" cy="5181480"/>
                  </a:xfrm>
                  <a:prstGeom prst="rect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3440" y="761760"/>
            <a:ext cx="8162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halı Dergilerin İkilenmesi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92120" y="1981080"/>
          <a:ext cx="5418000" cy="2286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2120" y="1981080"/>
                    <a:ext cx="5418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448080" y="4724280"/>
          <a:ext cx="5276880" cy="1828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48080" y="4724280"/>
                    <a:ext cx="52768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ktronik Bilgi Kaynak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ğ alt yapı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knoloji-içerik bütünleş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knolojinin maliyet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İçeriğin maliyet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nik bilginin fiyatlandırıl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nik bilgi kaynaklarının ortak kullanım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9-01T12:01:16Z</cp:lastPrinted>
  <dcterms:modified xsi:type="dcterms:W3CDTF">2000-09-01T12:01:28Z</dcterms:modified>
  <cp:revision>153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